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SllkmrdzaUg&amp;feature=emb_title" TargetMode="External"/><Relationship Id="rId2" Type="http://schemas.openxmlformats.org/officeDocument/2006/relationships/hyperlink" Target="https://www.youtube.com/watch?v=SllkmrdzaUg&amp;feature=emb_title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FLWsBZBPVI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  <a:ea typeface="Arial Unicode MS"/>
              </a:rPr>
              <a:t>Педагогический совет «Профессиональный рост педагогических работников: от новых задач – к новым результатам»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6520" y="3528720"/>
            <a:ext cx="640080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452a"/>
                </a:solidFill>
                <a:latin typeface="Calibri"/>
              </a:rPr>
              <a:t>МБОУ «Коммунарская СОШ №3»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452a"/>
                </a:solidFill>
                <a:latin typeface="Calibri"/>
              </a:rPr>
              <a:t>23 апреля 2020 года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a452a"/>
                </a:solidFill>
                <a:latin typeface="Cassandra"/>
              </a:rPr>
              <a:t>Упражнение «Мозговой штурм» -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5640" y="1196640"/>
            <a:ext cx="86389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один из наиболее известных методов коллективного поиска решений.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родолжите предложение, не повторяя друг друга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452a"/>
                </a:solidFill>
                <a:latin typeface="Calibri"/>
              </a:rPr>
              <a:t>Личностный рост педагога – это…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452a"/>
                </a:solidFill>
                <a:latin typeface="Calibri"/>
              </a:rPr>
              <a:t> </a:t>
            </a:r>
            <a:r>
              <a:rPr b="0" i="1" lang="ru-RU" sz="2800" spc="-1" strike="noStrike">
                <a:solidFill>
                  <a:srgbClr val="4a452a"/>
                </a:solidFill>
                <a:latin typeface="Calibri"/>
              </a:rPr>
              <a:t>(варианты ответов: … повышение квалификации; чтение литературы; саморазвитие; участие в конкурсах, умение анализировать; уметь вовлекать в значимую деятельность других людей; учиться всегда и везде; иметь личное мнение, признаваться самому себе в своих недостатках и др.)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a452a"/>
                </a:solidFill>
                <a:latin typeface="Cassandra"/>
              </a:rPr>
              <a:t>Личност ный рост педагога -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01592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452a"/>
                </a:solidFill>
                <a:latin typeface="Calibri"/>
              </a:rPr>
              <a:t>это собственная активность человека в изменении себя, в раскрытии, обогащении своих духовных потребностей, творчества, всего личностного потенциала, это качественные изменения личностного развития, затрагивающие основные жизненные отношения, «ядро» личности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452a"/>
                </a:solidFill>
                <a:latin typeface="Calibri"/>
              </a:rPr>
              <a:t>В профессиональном смысле </a:t>
            </a:r>
            <a:r>
              <a:rPr b="1" i="1" lang="ru-RU" sz="2800" spc="-1" strike="noStrike">
                <a:solidFill>
                  <a:srgbClr val="4a452a"/>
                </a:solidFill>
                <a:latin typeface="Calibri"/>
              </a:rPr>
              <a:t>личностный рост</a:t>
            </a:r>
            <a:r>
              <a:rPr b="0" i="1" lang="ru-RU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4a452a"/>
                </a:solidFill>
                <a:latin typeface="Calibri"/>
              </a:rPr>
              <a:t>педагога</a:t>
            </a:r>
            <a:r>
              <a:rPr b="0" i="1" lang="ru-RU" sz="2800" spc="-1" strike="noStrike">
                <a:solidFill>
                  <a:srgbClr val="4a452a"/>
                </a:solidFill>
                <a:latin typeface="Calibri"/>
              </a:rPr>
              <a:t> как цель и результат педагогического процесса предполагает овладение им в полном объеме профессиональными педагогическими компетенциями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30"/>
          <p:cNvGrpSpPr/>
          <p:nvPr/>
        </p:nvGrpSpPr>
        <p:grpSpPr>
          <a:xfrm>
            <a:off x="20520" y="30240"/>
            <a:ext cx="9123480" cy="6858000"/>
            <a:chOff x="20520" y="30240"/>
            <a:chExt cx="9123480" cy="6858000"/>
          </a:xfrm>
        </p:grpSpPr>
        <p:pic>
          <p:nvPicPr>
            <p:cNvPr id="102" name="Picture 145" descr=""/>
            <p:cNvPicPr/>
            <p:nvPr/>
          </p:nvPicPr>
          <p:blipFill>
            <a:blip r:embed="rId1"/>
            <a:stretch/>
          </p:blipFill>
          <p:spPr>
            <a:xfrm>
              <a:off x="20520" y="30240"/>
              <a:ext cx="91234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44" descr=""/>
            <p:cNvPicPr/>
            <p:nvPr/>
          </p:nvPicPr>
          <p:blipFill>
            <a:blip r:embed="rId2"/>
            <a:stretch/>
          </p:blipFill>
          <p:spPr>
            <a:xfrm>
              <a:off x="2286000" y="3816000"/>
              <a:ext cx="43578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143"/>
            <p:cNvSpPr/>
            <p:nvPr/>
          </p:nvSpPr>
          <p:spPr>
            <a:xfrm>
              <a:off x="4783320" y="1964880"/>
              <a:ext cx="4005000" cy="1786320"/>
            </a:xfrm>
            <a:prstGeom prst="pie">
              <a:avLst/>
            </a:pr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42" descr=""/>
            <p:cNvPicPr/>
            <p:nvPr/>
          </p:nvPicPr>
          <p:blipFill>
            <a:blip r:embed="rId3"/>
            <a:stretch/>
          </p:blipFill>
          <p:spPr>
            <a:xfrm>
              <a:off x="5341680" y="3887640"/>
              <a:ext cx="295920" cy="2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Freeform 141"/>
            <p:cNvSpPr/>
            <p:nvPr/>
          </p:nvSpPr>
          <p:spPr>
            <a:xfrm>
              <a:off x="5609160" y="3637800"/>
              <a:ext cx="297720" cy="297720"/>
            </a:xfrm>
            <a:prstGeom prst="pie">
              <a:avLst/>
            </a:pr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40"/>
            <p:cNvSpPr/>
            <p:nvPr/>
          </p:nvSpPr>
          <p:spPr>
            <a:xfrm>
              <a:off x="4783320" y="1964880"/>
              <a:ext cx="4005000" cy="1786320"/>
            </a:xfrm>
            <a:prstGeom prst="pie">
              <a:avLst/>
            </a:prstGeom>
            <a:noFill/>
            <a:ln w="25560">
              <a:solidFill>
                <a:srgbClr val="88a3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9" descr=""/>
            <p:cNvPicPr/>
            <p:nvPr/>
          </p:nvPicPr>
          <p:blipFill>
            <a:blip r:embed="rId4"/>
            <a:stretch/>
          </p:blipFill>
          <p:spPr>
            <a:xfrm>
              <a:off x="5329080" y="3875040"/>
              <a:ext cx="32112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138"/>
            <p:cNvSpPr/>
            <p:nvPr/>
          </p:nvSpPr>
          <p:spPr>
            <a:xfrm>
              <a:off x="4986000" y="2055240"/>
              <a:ext cx="3670920" cy="1879920"/>
            </a:xfrm>
            <a:prstGeom prst="pie">
              <a:avLst/>
            </a:prstGeom>
            <a:noFill/>
            <a:ln w="25560">
              <a:solidFill>
                <a:srgbClr val="88a3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37"/>
            <p:cNvSpPr/>
            <p:nvPr/>
          </p:nvSpPr>
          <p:spPr>
            <a:xfrm>
              <a:off x="283320" y="1893240"/>
              <a:ext cx="4158000" cy="1929600"/>
            </a:xfrm>
            <a:prstGeom prst="pie">
              <a:avLst/>
            </a:prstGeom>
            <a:solidFill>
              <a:srgbClr val="00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36" descr=""/>
            <p:cNvPicPr/>
            <p:nvPr/>
          </p:nvPicPr>
          <p:blipFill>
            <a:blip r:embed="rId5"/>
            <a:stretch/>
          </p:blipFill>
          <p:spPr>
            <a:xfrm>
              <a:off x="3184560" y="4005720"/>
              <a:ext cx="2577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Freeform 135"/>
            <p:cNvSpPr/>
            <p:nvPr/>
          </p:nvSpPr>
          <p:spPr>
            <a:xfrm>
              <a:off x="2970720" y="3734640"/>
              <a:ext cx="321840" cy="321840"/>
            </a:xfrm>
            <a:prstGeom prst="pie">
              <a:avLst/>
            </a:prstGeom>
            <a:solidFill>
              <a:srgbClr val="00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4"/>
            <p:cNvSpPr/>
            <p:nvPr/>
          </p:nvSpPr>
          <p:spPr>
            <a:xfrm>
              <a:off x="283320" y="1893240"/>
              <a:ext cx="4158000" cy="1929600"/>
            </a:xfrm>
            <a:prstGeom prst="pie">
              <a:avLst/>
            </a:prstGeom>
            <a:noFill/>
            <a:ln w="25560">
              <a:solidFill>
                <a:srgbClr val="88a3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33" descr=""/>
            <p:cNvPicPr/>
            <p:nvPr/>
          </p:nvPicPr>
          <p:blipFill>
            <a:blip r:embed="rId6"/>
            <a:stretch/>
          </p:blipFill>
          <p:spPr>
            <a:xfrm>
              <a:off x="3171960" y="3993120"/>
              <a:ext cx="283680" cy="3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132"/>
            <p:cNvSpPr/>
            <p:nvPr/>
          </p:nvSpPr>
          <p:spPr>
            <a:xfrm>
              <a:off x="420480" y="1991520"/>
              <a:ext cx="3810600" cy="2064240"/>
            </a:xfrm>
            <a:prstGeom prst="pie">
              <a:avLst/>
            </a:prstGeom>
            <a:noFill/>
            <a:ln w="25560">
              <a:solidFill>
                <a:srgbClr val="88a3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31" descr=""/>
            <p:cNvPicPr/>
            <p:nvPr/>
          </p:nvPicPr>
          <p:blipFill>
            <a:blip r:embed="rId7"/>
            <a:stretch/>
          </p:blipFill>
          <p:spPr>
            <a:xfrm>
              <a:off x="2504520" y="1620000"/>
              <a:ext cx="4606200" cy="33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Прямоугольник 19"/>
          <p:cNvSpPr/>
          <p:nvPr/>
        </p:nvSpPr>
        <p:spPr>
          <a:xfrm>
            <a:off x="1800360" y="2492280"/>
            <a:ext cx="6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6300720" y="249228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Профессиональные компетенции учителя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944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Дидактические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кадемические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ерцептивные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Речевые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рганизаторские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вторитарные (эмоционально-волевое влияние)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едагогическое воображение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Профессиональная компетентность педагога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7280" y="1197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a452a"/>
                </a:solidFill>
                <a:uFillTx/>
                <a:latin typeface="Calibri"/>
              </a:rPr>
              <a:t>Из профессионального стандарта</a:t>
            </a:r>
            <a:r>
              <a:rPr b="1" i="1" lang="ru-RU" sz="2800" spc="-1" strike="noStrike">
                <a:solidFill>
                  <a:srgbClr val="4a452a"/>
                </a:solidFill>
                <a:latin typeface="Calibri"/>
              </a:rPr>
              <a:t>: …компетентность – системное проявление знаний, умений, способностей и личностных качеств, позволяющее успешно решать функциональные задачи, составляющие сущность профессиональной деятельности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452a"/>
                </a:solidFill>
                <a:latin typeface="Calibri"/>
              </a:rPr>
              <a:t>Это многофакторное  явление, включающее в себя    систему теоретических знаний учителя и способов применения в конкретных педагогических ситуациях, ценностные ориентации педагога, а также интегративные показатели его культуры (речь, стиль общения, отношение к себе и своей деятельности, к смежным областям знания и др.)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452a"/>
                </a:solidFill>
                <a:latin typeface="Calibri"/>
              </a:rPr>
              <a:t>Браже Т.Г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Виды педагогической компетентности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375920"/>
            <a:ext cx="85327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1.Специальная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2.Методическая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3.Психолого-педагогическая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4.Дифференциально-психологическая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5.Аутопсихологическая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6.Информационная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7.Коммуникативная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8.Социокультурная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9.Культурологическая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Picture 7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73"/>
            <p:cNvSpPr/>
            <p:nvPr/>
          </p:nvSpPr>
          <p:spPr>
            <a:xfrm>
              <a:off x="1281960" y="3735000"/>
              <a:ext cx="4720680" cy="2489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72" descr=""/>
            <p:cNvPicPr/>
            <p:nvPr/>
          </p:nvPicPr>
          <p:blipFill>
            <a:blip r:embed="rId2"/>
            <a:stretch/>
          </p:blipFill>
          <p:spPr>
            <a:xfrm>
              <a:off x="5279400" y="2590200"/>
              <a:ext cx="138960" cy="1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71"/>
            <p:cNvSpPr/>
            <p:nvPr/>
          </p:nvSpPr>
          <p:spPr>
            <a:xfrm>
              <a:off x="4549680" y="2863800"/>
              <a:ext cx="683640" cy="80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0"/>
            <p:cNvSpPr/>
            <p:nvPr/>
          </p:nvSpPr>
          <p:spPr>
            <a:xfrm>
              <a:off x="1281960" y="3722760"/>
              <a:ext cx="4720680" cy="2501280"/>
            </a:xfrm>
            <a:prstGeom prst="pie">
              <a:avLst/>
            </a:prstGeom>
            <a:noFill/>
            <a:ln w="25560">
              <a:solidFill>
                <a:srgbClr val="88a3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69" descr=""/>
            <p:cNvPicPr/>
            <p:nvPr/>
          </p:nvPicPr>
          <p:blipFill>
            <a:blip r:embed="rId3"/>
            <a:stretch/>
          </p:blipFill>
          <p:spPr>
            <a:xfrm>
              <a:off x="5266440" y="2576880"/>
              <a:ext cx="16488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68"/>
            <p:cNvSpPr/>
            <p:nvPr/>
          </p:nvSpPr>
          <p:spPr>
            <a:xfrm>
              <a:off x="1521360" y="2863800"/>
              <a:ext cx="4326120" cy="3113280"/>
            </a:xfrm>
            <a:prstGeom prst="pie">
              <a:avLst/>
            </a:prstGeom>
            <a:noFill/>
            <a:ln w="25560">
              <a:solidFill>
                <a:srgbClr val="88a3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67"/>
          <p:cNvGrpSpPr/>
          <p:nvPr/>
        </p:nvGrpSpPr>
        <p:grpSpPr>
          <a:xfrm>
            <a:off x="152280" y="152280"/>
            <a:ext cx="9144000" cy="6858000"/>
            <a:chOff x="152280" y="152280"/>
            <a:chExt cx="9144000" cy="6858000"/>
          </a:xfrm>
        </p:grpSpPr>
        <p:pic>
          <p:nvPicPr>
            <p:cNvPr id="134" name="Picture 74" descr=""/>
            <p:cNvPicPr/>
            <p:nvPr/>
          </p:nvPicPr>
          <p:blipFill>
            <a:blip r:embed="rId4"/>
            <a:stretch/>
          </p:blipFill>
          <p:spPr>
            <a:xfrm>
              <a:off x="152280" y="152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73"/>
            <p:cNvSpPr/>
            <p:nvPr/>
          </p:nvSpPr>
          <p:spPr>
            <a:xfrm>
              <a:off x="1434240" y="3887280"/>
              <a:ext cx="4720680" cy="2489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72" descr=""/>
            <p:cNvPicPr/>
            <p:nvPr/>
          </p:nvPicPr>
          <p:blipFill>
            <a:blip r:embed="rId5"/>
            <a:stretch/>
          </p:blipFill>
          <p:spPr>
            <a:xfrm>
              <a:off x="5431680" y="2742480"/>
              <a:ext cx="138960" cy="1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71"/>
            <p:cNvSpPr/>
            <p:nvPr/>
          </p:nvSpPr>
          <p:spPr>
            <a:xfrm>
              <a:off x="4701960" y="3016080"/>
              <a:ext cx="683640" cy="80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0"/>
            <p:cNvSpPr/>
            <p:nvPr/>
          </p:nvSpPr>
          <p:spPr>
            <a:xfrm>
              <a:off x="1434240" y="3875040"/>
              <a:ext cx="4720680" cy="2501280"/>
            </a:xfrm>
            <a:prstGeom prst="pie">
              <a:avLst/>
            </a:prstGeom>
            <a:noFill/>
            <a:ln w="25560">
              <a:solidFill>
                <a:srgbClr val="88a3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69" descr=""/>
            <p:cNvPicPr/>
            <p:nvPr/>
          </p:nvPicPr>
          <p:blipFill>
            <a:blip r:embed="rId6"/>
            <a:stretch/>
          </p:blipFill>
          <p:spPr>
            <a:xfrm>
              <a:off x="5418720" y="2729160"/>
              <a:ext cx="16488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68"/>
            <p:cNvSpPr/>
            <p:nvPr/>
          </p:nvSpPr>
          <p:spPr>
            <a:xfrm>
              <a:off x="1673640" y="3016080"/>
              <a:ext cx="4326120" cy="3113280"/>
            </a:xfrm>
            <a:prstGeom prst="pie">
              <a:avLst/>
            </a:prstGeom>
            <a:noFill/>
            <a:ln w="25560">
              <a:solidFill>
                <a:srgbClr val="88a3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19"/>
          <p:cNvSpPr/>
          <p:nvPr/>
        </p:nvSpPr>
        <p:spPr>
          <a:xfrm>
            <a:off x="684360" y="476280"/>
            <a:ext cx="565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Что влияет на  профессиональный рост учите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1"/>
          <p:cNvSpPr/>
          <p:nvPr/>
        </p:nvSpPr>
        <p:spPr>
          <a:xfrm>
            <a:off x="2268360" y="4332240"/>
            <a:ext cx="35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тегория, стаж, участие в конкурсах профмастерства,.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Заполнение карты профессионального роста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144" name="image48.jpeg" descr="C:\Users\Павел\Desktop\illustration-182.jpg"/>
          <p:cNvPicPr/>
          <p:nvPr/>
        </p:nvPicPr>
        <p:blipFill>
          <a:blip r:embed="rId1"/>
          <a:stretch/>
        </p:blipFill>
        <p:spPr>
          <a:xfrm>
            <a:off x="936720" y="1601640"/>
            <a:ext cx="73072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4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a452a"/>
                </a:solidFill>
                <a:latin typeface="Cassandra"/>
              </a:rPr>
              <a:t>Стиль</a:t>
            </a:r>
            <a:endParaRPr b="0" lang="en-US" sz="38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31640" y="765000"/>
          <a:ext cx="8712360" cy="5919840"/>
        </p:xfrm>
        <a:graphic>
          <a:graphicData uri="http://schemas.openxmlformats.org/drawingml/2006/table">
            <a:tbl>
              <a:tblPr/>
              <a:tblGrid>
                <a:gridCol w="2903760"/>
                <a:gridCol w="2905200"/>
                <a:gridCol w="2903400"/>
              </a:tblGrid>
              <a:tr h="212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ита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учитель- «генерал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иентирован дать знания в соответствии с программ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ники - послушные исполнит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дерский/ демократ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учитель- « мастер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иентирован дать знания, заинтересовать. Приним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ения совместно с учени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вающий (учите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енеджер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иентирован дать знания и развить ученика как субъекта деятельности, обуч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кольников управлять соб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9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диционный/опекающий (учитель- «опекун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и-дети, нуждающиеся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авлении и контроле, не способные сами управлять соб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ериментирующий (учитель-«искатель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азных классах ведет себя по- разному, ищет варианты поведения и общения, вечно в поис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рудничающий ( учите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оспитатель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 важны, но главное - развитие ум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рудничать, развивать инициативу в учебной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учебной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траненный ( учите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урокодатель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различен к делу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ам, информирует, игнорирует пробле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посабливающий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жертвенный (учите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бедолага»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желателен с учениками. В неудачах упрекает окружение. Уговаривает, терпи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бегает конфлик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ts val="1636"/>
                        </a:lnSpc>
                        <a:spcBef>
                          <a:spcPts val="6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пустительский (учитель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иятель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>
                        <a:lnSpc>
                          <a:spcPct val="7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 важны, но процесс обучения не должен портить взаимоотношения. Часто идет на поводу у учеников. Не требовател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4a452a"/>
                </a:solidFill>
                <a:latin typeface="Cassandra"/>
              </a:rPr>
              <a:t>Начальная школа</a:t>
            </a:r>
            <a:br>
              <a:rPr sz="4400"/>
            </a:br>
            <a:endParaRPr b="0" lang="en-US" sz="4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00280"/>
            <a:ext cx="90360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Роль личности учителя выступает на первый план. Неограниченное влияние на детское сознание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Учитель начальных классов «преподает» ещѐ и просто жизнь, каждый день решая проблемы справедливости, милосердия, отношений, любви, прощения, побед и поражени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Самый главный человек , кто будет поддерживать одни нормы и законы и не поддерживать другие, кто будет выделять или не выделять любимчиков, позволять насмешки над «козлом отпущения» или защищать любого ребѐнка из класса от унижения, несправедливости и агрессии, здесь, конечно, учитель,у которого …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                                         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Роль матер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4920" y="-13536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2920" y="765000"/>
            <a:ext cx="8712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a452a"/>
                </a:solidFill>
                <a:uFillTx/>
                <a:latin typeface="Calibri"/>
              </a:rPr>
              <a:t>Цель:</a:t>
            </a: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 Повышение эффективности образовательного процесса через создание системы обеспечения роста профессионального мастерства и  личностного роста педагогов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0" name="image3.jpeg" descr="C:\Users\Павел\Desktop\biz-00090.png"/>
          <p:cNvPicPr/>
          <p:nvPr/>
        </p:nvPicPr>
        <p:blipFill>
          <a:blip r:embed="rId1"/>
          <a:stretch/>
        </p:blipFill>
        <p:spPr>
          <a:xfrm>
            <a:off x="5045040" y="4362480"/>
            <a:ext cx="3809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452a"/>
                </a:solidFill>
                <a:latin typeface="Cassandra"/>
              </a:rPr>
              <a:t>Основная школа</a:t>
            </a:r>
            <a:endParaRPr b="0" lang="en-US" sz="4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a452a"/>
                </a:solidFill>
                <a:latin typeface="Calibri"/>
              </a:rPr>
              <a:t>В основной школе становятся «успешными» учителя:</a:t>
            </a:r>
            <a:endParaRPr b="0" lang="en-US" sz="23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a452a"/>
                </a:solidFill>
                <a:latin typeface="Calibri"/>
              </a:rPr>
              <a:t>-способные, как великие миссионеры прошлого, силой собственной харизмы обратить в нужную им веру язычников целого континента;</a:t>
            </a:r>
            <a:endParaRPr b="0" lang="en-US" sz="23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a452a"/>
                </a:solidFill>
                <a:latin typeface="Calibri"/>
              </a:rPr>
              <a:t>-обладающие риторическими способностями знаменитых римских полководцев;</a:t>
            </a:r>
            <a:endParaRPr b="0" lang="en-US" sz="23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a452a"/>
                </a:solidFill>
                <a:latin typeface="Calibri"/>
              </a:rPr>
              <a:t>-наделѐнные даром Шахерезады заинтересовать слушателя и держать его в постоянном напряжении;</a:t>
            </a:r>
            <a:endParaRPr b="0" lang="en-US" sz="23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a452a"/>
                </a:solidFill>
                <a:latin typeface="Calibri"/>
              </a:rPr>
              <a:t>-обладающие личностной и профессиональной компетентностью увлечѐнного своим делом суперпрофессионала;</a:t>
            </a:r>
            <a:endParaRPr b="0" lang="en-US" sz="23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a452a"/>
                </a:solidFill>
                <a:latin typeface="Calibri"/>
              </a:rPr>
              <a:t>-способные с достоинством английского лорда и храбростью японского самурая признать своѐ поражение.</a:t>
            </a:r>
            <a:endParaRPr b="0" lang="en-US" sz="23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Роль отца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Подростки 7-9 класс не прощают:</a:t>
            </a:r>
            <a:br>
              <a:rPr sz="3600"/>
            </a:b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34920" y="1591920"/>
            <a:ext cx="3780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76720" y="1591920"/>
            <a:ext cx="3780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Некомпетентность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Несправедливость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Личной пустоты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тсутствие позици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grpSp>
        <p:nvGrpSpPr>
          <p:cNvPr id="154" name="Group 41"/>
          <p:cNvGrpSpPr/>
          <p:nvPr/>
        </p:nvGrpSpPr>
        <p:grpSpPr>
          <a:xfrm>
            <a:off x="755640" y="1449360"/>
            <a:ext cx="8280000" cy="5408640"/>
            <a:chOff x="755640" y="1449360"/>
            <a:chExt cx="8280000" cy="5408640"/>
          </a:xfrm>
        </p:grpSpPr>
        <p:pic>
          <p:nvPicPr>
            <p:cNvPr id="155" name="Picture 44" descr=""/>
            <p:cNvPicPr/>
            <p:nvPr/>
          </p:nvPicPr>
          <p:blipFill>
            <a:blip r:embed="rId1"/>
            <a:stretch/>
          </p:blipFill>
          <p:spPr>
            <a:xfrm>
              <a:off x="755640" y="1449360"/>
              <a:ext cx="3580200" cy="45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3" descr=""/>
            <p:cNvPicPr/>
            <p:nvPr/>
          </p:nvPicPr>
          <p:blipFill>
            <a:blip r:embed="rId2"/>
            <a:stretch/>
          </p:blipFill>
          <p:spPr>
            <a:xfrm>
              <a:off x="4860000" y="4329720"/>
              <a:ext cx="4175640" cy="252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Средняя школа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872640"/>
            <a:ext cx="90360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Учителем старших классов может быть не каждый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Прежде всего это-внутренняя зрелость,   способность быть открытым всему новому, прогрессивному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Учеников старших классов из-за их явного интереса к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общению и межперсональному взаимодействию личность учителя будет интересовать значительно больше, чем содержание предмета, который он  преподаѐт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В старшей школе имеет значение не только ваше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знание предмета, но и то, как этот предмет помогает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вам жить, важность его в той системе образования,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a452a"/>
                </a:solidFill>
                <a:latin typeface="Calibri"/>
              </a:rPr>
              <a:t>которую вы транслируете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Роль старшего товарища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Наблюдается ли профессиональный рост?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1593720"/>
          <a:ext cx="8604000" cy="4937400"/>
        </p:xfrm>
        <a:graphic>
          <a:graphicData uri="http://schemas.openxmlformats.org/drawingml/2006/table">
            <a:tbl>
              <a:tblPr/>
              <a:tblGrid>
                <a:gridCol w="2989080"/>
                <a:gridCol w="2124000"/>
                <a:gridCol w="1800360"/>
                <a:gridCol w="16905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/2017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/2018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/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аттестации педаг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высшая 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первая 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победителей и призѐров ВоШ (муниц. этап)/и ВоШ(регион.эта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открытых уроков, мастер-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профессиональных конкур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енная успеваемость по итогам учебного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ssandra"/>
              </a:rPr>
              <a:t>Идеальный портрет учителя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76720" y="980640"/>
            <a:ext cx="58672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Справедлив и честен перед собой, своими учениками, коллегами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Чувствует состояние другого человека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Умеет наладить контакт с каждым учеником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Гибок, т.е способен проявлять большую жесткость или мягкость в зависимости от ситуации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Умеет задавать вопросы и выслушивать ответы на них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Может показать свою компетентность в преподаваемом им предмете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Устанавливает четкие процедуры проверки знаний учеников, при этом демонстрируя желание помочь им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Любит и умеет экспериментировать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Ищет новые формы и методы работы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a452a"/>
                </a:solidFill>
                <a:latin typeface="Calibri"/>
              </a:rPr>
              <a:t>Ему свойственно положительное восприятие самого себя, учеников, коллег.</a:t>
            </a: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63" name="image60.png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3060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5"/>
          <p:cNvSpPr/>
          <p:nvPr/>
        </p:nvSpPr>
        <p:spPr>
          <a:xfrm>
            <a:off x="431640" y="368280"/>
            <a:ext cx="8209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тка рефлексии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листочках определите три плюса или три минуса, продолжая предлож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удовлетворен (-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ором своей  профессии, потому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не  удовлетворен(-а) выбором своей профессии, потому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image61.jpeg" descr=""/>
          <p:cNvPicPr/>
          <p:nvPr/>
        </p:nvPicPr>
        <p:blipFill>
          <a:blip r:embed="rId1"/>
          <a:stretch/>
        </p:blipFill>
        <p:spPr>
          <a:xfrm>
            <a:off x="6372360" y="4400640"/>
            <a:ext cx="26589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6720" y="29664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ssandra"/>
              </a:rPr>
              <a:t>Профессиональное выгорание или усталость?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Коллеги, предлагаем пройти  тест на профессиональное выгорание в данном видео. Приготовьте для этого бумагу и карандаш. Перейдите по ссылке (нажать на ссылку  правой кнопкой «мышки», выбрать «Открыть гиперссылку»):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www.youtube.com/watch?v=SllkmrdzaUg&amp;feature=emb_title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 </a:t>
            </a:r>
            <a:br>
              <a:rPr sz="6000"/>
            </a:br>
            <a:r>
              <a:rPr b="0" lang="ru-RU" sz="4000" spc="-1" strike="noStrike">
                <a:solidFill>
                  <a:srgbClr val="4a452a"/>
                </a:solidFill>
                <a:latin typeface="Cassandra"/>
              </a:rPr>
              <a:t>Профессиональное выгорание?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нимационный фильм об источниках и профилактике профессионального выгорания "Гореть не выгорая»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ерейдите по ссылке (нажать на ссылку на правой кнопкой «мышки», выбрать «Открыть гиперссылку»):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RFLWsBZBPVI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Обсуждение  вопросов педагогического совета (обратная связь)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a452a"/>
                </a:solidFill>
                <a:latin typeface="Calibri"/>
              </a:rPr>
              <a:t>Коллеги, ответьте на все вопросы данной анкеты по теме педагогического совета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a452a"/>
                </a:solidFill>
                <a:latin typeface="Cassandra"/>
              </a:rPr>
              <a:t>Мы желаем Вам</a:t>
            </a:r>
            <a:r>
              <a:rPr b="1" lang="ru-RU" sz="6000" spc="-1" strike="noStrike">
                <a:solidFill>
                  <a:srgbClr val="4a452a"/>
                </a:solidFill>
                <a:latin typeface="Cassandra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6800" y="946080"/>
            <a:ext cx="8916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Быть преданными ученикам и делу обучения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Постоянно повышать свой профессиональный уровень и мастерство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Приобретать творческий опыт работы с обучающимися и их родителями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Преодолевать трудности профессии и извлекать полезный опыт из ошибок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Сохранять оптимизм и веру в себя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920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Задачи: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6000" y="907920"/>
            <a:ext cx="874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a452a"/>
                </a:solidFill>
                <a:latin typeface="Calibri"/>
              </a:rPr>
              <a:t>раскрыть теоретические аспекты проблемы личностного развития педагога в условиях перехода на ФГОС нового поколения;</a:t>
            </a: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624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a452a"/>
                </a:solidFill>
                <a:latin typeface="Calibri"/>
              </a:rPr>
              <a:t>показать необходимость и значимость личностного</a:t>
            </a: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624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a452a"/>
                </a:solidFill>
                <a:latin typeface="Calibri"/>
              </a:rPr>
              <a:t>роста педагога в условиях перехода на ФГОС второго</a:t>
            </a: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624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a452a"/>
                </a:solidFill>
                <a:latin typeface="Calibri"/>
              </a:rPr>
              <a:t>поколения;</a:t>
            </a: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624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a452a"/>
                </a:solidFill>
                <a:latin typeface="Calibri"/>
              </a:rPr>
              <a:t>выработать рекомендации по формированию и</a:t>
            </a: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624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a452a"/>
                </a:solidFill>
                <a:latin typeface="Calibri"/>
              </a:rPr>
              <a:t>совершенствованию педагогического мастерства</a:t>
            </a: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624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a452a"/>
                </a:solidFill>
                <a:latin typeface="Calibri"/>
              </a:rPr>
              <a:t>педагогов ОУ;</a:t>
            </a: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  <a:p>
            <a:pPr marL="341280" indent="-341280">
              <a:spcBef>
                <a:spcPts val="624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a452a"/>
                </a:solidFill>
                <a:latin typeface="Calibri"/>
              </a:rPr>
              <a:t>стимулировать процесс профессионального самосовершенствования педагогов;</a:t>
            </a: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  <a:p>
            <a:pPr marL="341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482760" y="507960"/>
            <a:ext cx="817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Завтра снова будет школьный день. Я приду к нему чуть - чуть друга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В моей жизни - новая ступен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Вниз иль вверх, - пока еще не знаю. Но зато другое знаю я, твердо, как таблицу умножень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Будут в нашей жизни достиженья, Если будут в ней Учи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920" y="115560"/>
            <a:ext cx="7920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Актуальность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7280" y="1197000"/>
            <a:ext cx="885672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Указ Президента Российской Федерации от 7 мая 2018 года «О национальных целях и стратегических задачах развития Российской Федерации на период до 2024 года»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ациональный проект «Образование», утвержденный Президиумом Совета при Президенте РФ по стратегическому развитию и      национальным проектам от 03.09.2018г протокол №10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5" name="image5.png" descr="C:\Users\Павел\Desktop\kmg8s0Xu8oL49yAQ4GoBSQbngmA2MJNz.jpg"/>
          <p:cNvPicPr/>
          <p:nvPr/>
        </p:nvPicPr>
        <p:blipFill>
          <a:blip r:embed="rId1"/>
          <a:stretch/>
        </p:blipFill>
        <p:spPr>
          <a:xfrm>
            <a:off x="2158920" y="873000"/>
            <a:ext cx="4573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4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ssandra"/>
              </a:rPr>
              <a:t>Совершенствование системы образования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2560" y="1052280"/>
            <a:ext cx="9001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a452a"/>
                </a:solidFill>
                <a:latin typeface="Calibri"/>
              </a:rPr>
              <a:t>Новый национальный проект «Образование» предполагает реализацию 10 федеральных проектов. </a:t>
            </a:r>
            <a:endParaRPr b="0" lang="en-US" sz="2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a452a"/>
                </a:solidFill>
                <a:uFillTx/>
                <a:latin typeface="Calibri"/>
              </a:rPr>
              <a:t>Цель:</a:t>
            </a:r>
            <a:r>
              <a:rPr b="0" lang="ru-RU" sz="2200" spc="-1" strike="noStrike">
                <a:solidFill>
                  <a:srgbClr val="4a452a"/>
                </a:solidFill>
                <a:latin typeface="Calibri"/>
              </a:rPr>
              <a:t> Россия должна войти в число 10 ведущих стран мира по качеству общего образования</a:t>
            </a:r>
            <a:endParaRPr b="0" lang="en-US" sz="2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a452a"/>
                </a:solidFill>
                <a:uFillTx/>
                <a:latin typeface="Calibri"/>
              </a:rPr>
              <a:t>Проект №9</a:t>
            </a:r>
            <a:r>
              <a:rPr b="0" lang="ru-RU" sz="2200" spc="-1" strike="noStrike">
                <a:solidFill>
                  <a:srgbClr val="4a452a"/>
                </a:solidFill>
                <a:latin typeface="Calibri"/>
              </a:rPr>
              <a:t> – «Учитель будущего».</a:t>
            </a:r>
            <a:endParaRPr b="0" lang="en-US" sz="2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a452a"/>
                </a:solidFill>
                <a:latin typeface="Calibri"/>
              </a:rPr>
              <a:t>Согласно проекта предполагается:</a:t>
            </a:r>
            <a:endParaRPr b="0" lang="en-US" sz="2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a452a"/>
                </a:solidFill>
                <a:latin typeface="Calibri"/>
              </a:rPr>
              <a:t>1.Провести добровольную независимую оценку профессиональной квалификации педагогических работников систем общего и дополнительного образования.</a:t>
            </a:r>
            <a:endParaRPr b="0" lang="en-US" sz="2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a452a"/>
                </a:solidFill>
                <a:latin typeface="Calibri"/>
              </a:rPr>
              <a:t>2. Внедрить систему аттестации руководителей школы во всех субъектах РФ. </a:t>
            </a:r>
            <a:endParaRPr b="0" lang="en-US" sz="2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a452a"/>
                </a:solidFill>
                <a:latin typeface="Calibri"/>
              </a:rPr>
              <a:t>3.Ввести НСУР – национальную систему учительского роста педагогических работников.</a:t>
            </a:r>
            <a:endParaRPr b="0" lang="en-US" sz="2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a452a"/>
                </a:solidFill>
                <a:latin typeface="Calibri"/>
              </a:rPr>
              <a:t>4.Изменить номенклатуру должностей педагогических работников, руководителей школ. </a:t>
            </a:r>
            <a:endParaRPr b="0" lang="en-US" sz="2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4920" y="-11736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47880" y="108864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libri"/>
              </a:rPr>
              <a:t>Профессиональный рост </a:t>
            </a: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– это расширение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libri"/>
              </a:rPr>
              <a:t>разнообразных специализированных знаний, умений и навыков.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90" name="image4.jpeg" descr="C:\Users\Павел\Desktop\imgpreview.jpg"/>
          <p:cNvPicPr/>
          <p:nvPr/>
        </p:nvPicPr>
        <p:blipFill>
          <a:blip r:embed="rId1"/>
          <a:stretch/>
        </p:blipFill>
        <p:spPr>
          <a:xfrm>
            <a:off x="3276720" y="4365720"/>
            <a:ext cx="3311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ssandra"/>
              </a:rPr>
              <a:t>Педагогическое  мастерство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036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В понятие «педагогическое мастерство» вкладываются следующее содержание: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умение решать задачи обучения, воспитания, развития в их диалектической взаимосвязи и единстве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-умение привлечь внимание обучающихся и заинтересовать их своим предметом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- умение учитывать возраст и психологические особенности обучающихся, а также уровень их развития и на основе этого обеспечить индивидуальный и дифференцированный подход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ssandra"/>
              </a:rPr>
              <a:t>Педагогическое  мастерство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1196640"/>
            <a:ext cx="88581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- умение строить свои взаимоотношения с обучающимися на гуманной, демократической основе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- умение не теряться при самых трудных и неожиданных вопросах обучающихс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умение сочетать теорию и практику в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реподавании учебного предмет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-умение грамотно  использовать в своей работе новинки передовой педагогической науки и практики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ssandra"/>
              </a:rPr>
              <a:t>Педагогическое  мастерство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59336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- умение в совершенстве владеть своим орудием труда – речью, словом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- умение критически мыслить и иметь четкую гражданскую позицию, не пасовать перед трудностями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- умение разнообразить свои занятия, избегать шаблонность в их организации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Владелец</cp:lastModifiedBy>
  <dcterms:modified xsi:type="dcterms:W3CDTF">2020-07-19T13:30:07Z</dcterms:modified>
  <cp:revision>39</cp:revision>
  <dc:subject/>
  <dc:title>Слайд 1</dc:title>
</cp:coreProperties>
</file>