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gif" ContentType="image/gif"/>
  <Override PartName="/ppt/media/image5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gif" ContentType="image/gi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BA72-9EED-436F-A92D-0FF3DA93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B8DF-6C71-41DB-A833-38FF0FE5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36241-6E62-4A34-B507-0D2B4AA0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9A09D-F846-4567-8905-86252695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39A86-3952-4522-9851-73CB8B20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B9DEF-1599-4020-A7AE-ABDBE692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B5823-0026-4216-B7EF-DECF665D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9BAEF-EFD9-4781-8803-5E9A6988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447AC-1972-4979-832D-278A4355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E07C5-8D07-446A-99B1-F1DA44C3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86940-B459-40C3-8074-24A6C1A7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7194E-64EC-4433-AD20-6BFD0E32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87EE-1087-4FB8-8073-93850CAF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F359F-3995-43E3-B298-28026E9D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2EEE0-1A5B-485B-8E12-2FE72E20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6FB98-8AD6-4B40-9755-8FF53441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4A71A-9080-479C-9A11-722195B1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E2E55-C133-41A3-8C6D-088B4D3E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E5AA7-E0BC-4B77-9864-9A6FF8E1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BAD3A-0272-4C3F-950A-72C270DD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D0902-DD28-4061-98C9-B3D99E6D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FF9BC-46F9-441D-87AB-16D6E8DE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E18FC-F1E8-440A-B518-83AF1BEF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0B9-F25C-4134-9191-CC58CADB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B03E4-D6D0-4351-9FF9-063ED298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1168D-F8FA-42FE-8B08-761B832D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D9519-F16F-4562-9D93-82A046F1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F5AF3-7C43-4283-B46D-15E483C7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7E384-8366-4C32-BB78-BECF846F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19AAD-088E-48A9-8017-715AFD06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B518A-7396-473C-9194-BA1DF158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B09AB-BF79-4106-BA74-8EC6011F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9B9A7-1689-421F-8A2F-5D7C46EF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81A5F-5711-4CFF-B4DC-B2CEF11D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F3654-A434-4CD4-A1F3-08548A24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FD437-769D-4F7A-9059-4F347639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47A3F-E537-4C96-8D26-0EB0F49B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27A4A-7436-4916-B38C-B39A25CEB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D3DDA-9086-4224-9E0C-A950BCE4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56A6C-F147-426C-93F8-478D6798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E1911-07A8-4853-BCAC-8D657B6A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61303-6996-4043-8A52-62A79826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09A0B-17DC-4B77-B7D9-7843C0C2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C4479-9D15-4020-AFAD-61C2B5C3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75405-7F80-4433-B623-339B37EE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2F706-2784-40EF-8B06-0EB2EDE6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5B0F4-ADC6-4643-B270-890BE7CE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692D7-A22F-40E5-A525-FD3DDB37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FE063-DB78-4AED-B914-F07863BF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4EE6C-30D7-4F96-BA8E-E8DA6C4C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A2C8B-67E5-450C-AA41-30EF4CC6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47A66-14FF-4069-A6B7-2BE4CE16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945F9-AE97-47F1-9091-AC58CB3B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E82EC-B566-404E-90A5-33058FD2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E71CB-456E-4882-843B-80271849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D988B-550B-4481-A177-BA60B731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2F7B-A2D5-414C-8EF5-53470B33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B2B68-8623-4E80-9573-41C038BF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219BC-4E58-4856-961C-28F528AD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CE9E5-ECBF-402F-9D9D-26301DA5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7A256-441A-4DC8-BF56-79D73C6D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A910E-E7C8-47E5-9C5E-4CB2765E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E498C2-4987-4D6F-9709-3B261894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E43F92-F89D-4011-84EA-64390155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81A0F9-AD96-4111-893C-3105DFD6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72F630-C9D4-4D57-9BC9-D0516AF1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4CAF0F-AF65-4574-92DD-BEF1951E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5E88-1628-432B-B134-95DD8E90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06C72B-2B35-4863-832D-2B085BC8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480B10-D34D-4DAE-8298-5C8BC0BB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48602C-240E-41EF-9030-FB283C9B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AD0E78-5F92-4FCC-9333-EF5A7136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D9E980-18BC-478C-BC18-052D82AE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92B0FC-923C-468E-9013-1B4FFEBF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139354-600E-4FFE-BC8E-16A4B850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8FB4E-38A8-40B8-AC62-3AF71DA1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55957-92E9-4352-A7FC-FD0B24AA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F85F4-F773-41FD-9E6E-4D86D5E5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C13B-48FB-4C5A-A5BE-44F6614E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CFDBA-BBF0-45B4-81E4-DB93D9A8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C3092-6AAD-4BC6-8DF5-62922150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F0D63-FA2D-4D58-BCFB-9EA70DF0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8119A-2812-49ED-B062-7D449950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03B7E-ADDB-4DE2-A597-F1CDB712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09423-6263-4589-9A75-A0A472B8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93503-0CC3-4A1E-BBA6-B3FDDA96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132E7-0338-4828-B9D8-7D9EDA13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346AA-1D01-4408-8921-373C1AD6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7F023-2373-4A78-B7F5-C6AF41A10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4D9E-0CFE-4E56-B58C-98F0E8E9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49CA1-8A98-4458-A6F1-E4F774C2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7F4F1-6B57-48D7-9B5F-238016CF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9DAC5-C20D-4384-86EB-BCA6B1C4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3DDA8-3A79-4E7A-825A-4107868D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44EC4-F4B7-414E-9CC9-13E01103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5BAE2-C08A-492C-8F91-26AD99E7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9DB0D-B037-4C05-8CB3-4ED618BE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053FE-C160-4388-A3AB-1BF1B49E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5F01D-63C3-4520-9D56-69D5CB90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E13F6-6875-40D5-A382-7C6912B6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CF73-599A-4279-83A8-30027230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AAA11-1C2E-4AD5-81EA-85A0810A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03EAE-5FD1-436F-BE4C-AEDE7EC6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D6F01-833E-459E-BA1F-B214452F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09FB8-12CC-4080-A4AD-D6BA0227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42DEA-F84E-4C63-B7C8-C9B5684C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AC260-0C56-46B8-A45A-A56C04E8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ABD1D-D863-4892-97DB-28A08F41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1F378-9C08-4F6F-BAB0-70E6FD1A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0D41A-1333-43BF-8A2E-B3492E88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C558A-F9BF-4393-9B2F-E3E7054D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8390-9511-46D3-82F6-BCD0EBD7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8E8CF-CC81-4801-999F-7B850A77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6FA9C-FDE1-44E8-92C7-BB94D8F6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69092-5F68-420B-8672-EC738F52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7F399-F978-4266-9720-DA7019C6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1F7B3-AB56-4261-BDEA-78681EE3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F975A-30E1-4E61-81F9-6D68D9D6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B4A20-95D9-4190-91B9-954F71A2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D2317-3537-4868-9BAD-D41D098A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30E01-B83B-4EDB-B9FA-426F9E37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32F0C-B02A-4D48-A088-BC2C6A8C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C909-2294-4815-8494-189DEFA4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3A852-637C-4478-A8C8-04E5D0D4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57230-2A20-44F3-A54A-2B625333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FD3E4-768E-426D-989F-8887D05A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E56D2-E4BC-4256-A22F-2D003FF9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00DEB-9CA9-4AA3-BD95-4E945949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EC219-6F97-43BB-A373-5CCAF98D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5A690-6225-4366-A48F-314ACD29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D4863-2968-483A-9258-1EFD4544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66ADF-CA7B-4F9D-AFBA-5F9F63F3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063CB-0802-4D6C-8AC8-F6C7D71A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9466-D055-44F4-9768-56D13704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2C2BD-AD8B-4762-BBE6-FC6CE476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03F4B-4905-4B4E-934B-7E5C94A9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1F4CC-C003-41EA-95F2-0F3A9377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C87FA-D39B-4A87-BC5B-5300C9C2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FFCDB-7BCB-486C-A957-DC0F354E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3AC6B-4F72-4E53-8CAE-B503D58B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0B72A-AA00-46F7-ACF1-221E82FA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B9007-7656-4464-9FD4-17AB7A2E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92663-A325-4FB0-8311-D415ABB9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3AEA1-B6B8-467A-A8AC-3A4B27FC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0886-9414-4659-A058-9DBCCCB1BA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044F-313D-41F7-AA15-6B692069E89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6845-B84D-4C19-97FC-FA0CC184869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7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988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9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0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CE38-9D9C-4C92-A725-C801E27D5CB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C848-BA3B-47B6-8E35-AB98D24519E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39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C29C-AF77-4A63-B0A3-7F1BB5DCAE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914D-39CA-4520-B4E7-6B2F0FED3CA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A1D1-8F9C-486E-8071-9A19EC8214A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82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7781-55D8-4F09-81FC-EA193AE3D7A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28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9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3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3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537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538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41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542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3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4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5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47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DC53-9FA6-4F61-AD85-8F2073D700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9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9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F8CE-08A6-47C8-B606-B507DBEBC51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646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7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8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9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7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8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9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1" name="Rectangle 18"/>
            <p:cNvSpPr/>
            <p:nvPr/>
          </p:nvSpPr>
          <p:spPr>
            <a:xfrm flipH="1" flipV="1" rot="18391200">
              <a:off x="85366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2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3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4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5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6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5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6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7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8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9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0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1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4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5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6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7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0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9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1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2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3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4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5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6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7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9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0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1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2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3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4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5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6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9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0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1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2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3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4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5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6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8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0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1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2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3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4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5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6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7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9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0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1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2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9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0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1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2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3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4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3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4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5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7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8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9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0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1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2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3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4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5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6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7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8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9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0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1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3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4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5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6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7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8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9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0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1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3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4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6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7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8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9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0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1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2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5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6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7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8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9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0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1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2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3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4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5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6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7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8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9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0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1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2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3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4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5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6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7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8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9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0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1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2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3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4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5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6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7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8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9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0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1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0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6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0E6F-D8D4-48B3-B633-336BA00A4B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WordArt 5"/>
          <p:cNvSpPr txBox="1"/>
          <p:nvPr/>
        </p:nvSpPr>
        <p:spPr>
          <a:xfrm>
            <a:off x="2556000" y="2276640"/>
            <a:ext cx="44654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18900000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Задач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18900000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18900000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и пять методов е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18900000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18900000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реш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18900000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3" name="Rectangle 8"/>
          <p:cNvSpPr/>
          <p:nvPr/>
        </p:nvSpPr>
        <p:spPr>
          <a:xfrm>
            <a:off x="2987640" y="54072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«Бенефис одной задачи»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Rectangle 9"/>
          <p:cNvSpPr/>
          <p:nvPr/>
        </p:nvSpPr>
        <p:spPr>
          <a:xfrm>
            <a:off x="179280" y="5013360"/>
            <a:ext cx="698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Выполнил: Гаврилов Григорий,ученик 10 класса. 2021г.МБОУ «Гатчинская СОШ №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Руководитель проекта  с использованием презентации 2011г.  Шатиловой Виктор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Громова Н. А.2021 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/>
          </p:nvPr>
        </p:nvSpPr>
        <p:spPr>
          <a:xfrm>
            <a:off x="685800" y="1868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едиану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 биссектрису  ВЕ треугольника АВС выразим через длины 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с сторон треугольника по формулам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усть АВ=х, АЕ=у, тогда ВС=2х и СЕ=2у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лучим систему уравнений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Rectangle 7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8" name="Object 6"/>
              <p:cNvSpPr txBox="1"/>
              <p:nvPr/>
            </p:nvSpPr>
            <p:spPr>
              <a:xfrm>
                <a:off x="5219640" y="2060640"/>
                <a:ext cx="187164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</m:e>
                      <m:e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С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А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9" name="Rectangle 9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Object 8"/>
              <p:cNvSpPr txBox="1"/>
              <p:nvPr/>
            </p:nvSpPr>
            <p:spPr>
              <a:xfrm>
                <a:off x="1908000" y="4797360"/>
                <a:ext cx="540072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сюда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Значит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ra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11" name="Picture 10" descr="сканирование0001"/>
          <p:cNvPicPr/>
          <p:nvPr/>
        </p:nvPicPr>
        <p:blipFill>
          <a:blip r:embed="rId1"/>
          <a:stretch/>
        </p:blipFill>
        <p:spPr>
          <a:xfrm>
            <a:off x="5292720" y="3429000"/>
            <a:ext cx="3240000" cy="22464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112" name="WordArt 4"/>
          <p:cNvSpPr txBox="1"/>
          <p:nvPr/>
        </p:nvSpPr>
        <p:spPr>
          <a:xfrm>
            <a:off x="665280" y="-28440"/>
            <a:ext cx="6664320" cy="15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3. Аналитически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/>
          </p:nvPr>
        </p:nvSpPr>
        <p:spPr>
          <a:xfrm>
            <a:off x="107640" y="1568160"/>
            <a:ext cx="83516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означим АВ=х, угол АВС=2α. По теореме косинусов из треугольников АВЕ и ВСЕ находим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читывая, что СЕ=2АЕ или С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=4А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учаем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cos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3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cos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α=ВО, значит, ВО=3 и ОЕ=1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таётся, пользуясь теоремой Пифагора, вычислить стороны треугольника АВС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4" name="Object 9"/>
              <p:cNvSpPr txBox="1"/>
              <p:nvPr/>
            </p:nvSpPr>
            <p:spPr>
              <a:xfrm>
                <a:off x="6443640" y="2349360"/>
                <a:ext cx="187344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14"/>
              <p:cNvSpPr txBox="1"/>
              <p:nvPr/>
            </p:nvSpPr>
            <p:spPr>
              <a:xfrm>
                <a:off x="1547640" y="4944960"/>
                <a:ext cx="3889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16" name="Picture 17" descr="сканирование0001"/>
          <p:cNvPicPr/>
          <p:nvPr/>
        </p:nvPicPr>
        <p:blipFill>
          <a:blip r:embed="rId1"/>
          <a:stretch/>
        </p:blipFill>
        <p:spPr>
          <a:xfrm>
            <a:off x="5846760" y="4944960"/>
            <a:ext cx="2612880" cy="181152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1117" name="WordArt 4"/>
          <p:cNvSpPr txBox="1"/>
          <p:nvPr/>
        </p:nvSpPr>
        <p:spPr>
          <a:xfrm>
            <a:off x="468360" y="-66600"/>
            <a:ext cx="7383240" cy="15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4. Тригонометрический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WordArt 15"/>
          <p:cNvSpPr txBox="1"/>
          <p:nvPr/>
        </p:nvSpPr>
        <p:spPr>
          <a:xfrm>
            <a:off x="1727280" y="476280"/>
            <a:ext cx="597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еометрический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соб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9" name="Text Box 16"/>
          <p:cNvSpPr/>
          <p:nvPr/>
        </p:nvSpPr>
        <p:spPr>
          <a:xfrm>
            <a:off x="2627280" y="19414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1.С помощью площад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Text Box 17"/>
          <p:cNvSpPr/>
          <p:nvPr/>
        </p:nvSpPr>
        <p:spPr>
          <a:xfrm>
            <a:off x="1798560" y="29005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2. С помощью осевой симметри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Text Box 21"/>
          <p:cNvSpPr/>
          <p:nvPr/>
        </p:nvSpPr>
        <p:spPr>
          <a:xfrm>
            <a:off x="900000" y="38116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3. По теореме о средней линии треугольни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Text Box 23"/>
          <p:cNvSpPr/>
          <p:nvPr/>
        </p:nvSpPr>
        <p:spPr>
          <a:xfrm>
            <a:off x="2627280" y="477216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4. По теореме Менел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28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/>
          </p:nvPr>
        </p:nvSpPr>
        <p:spPr>
          <a:xfrm>
            <a:off x="3419280" y="1557360"/>
            <a:ext cx="5400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Так как АО=О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=2, ВЕ=4 и А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перпендикулярна ВЕ, то площадь каждого из треугольников ВАЕ и В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Е равна 4. Площадь треугольника С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Е так же равна 4, так как медиана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делит треугольник ВСЕ на два равновеликих треугольника.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Значит, площадь треугольника АВС равна 12.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Поскольку А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-медиана треугольника АВС,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то площадь треугольника АВ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равна 6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Остаётся применить формулу площади треугольника. Получим: АО*ВО=6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Но АО=2, значит, ВО=3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Стороны треугольника АВС найдём по теореме Пифагора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4" name="Object 8"/>
              <p:cNvSpPr txBox="1"/>
              <p:nvPr/>
            </p:nvSpPr>
            <p:spPr>
              <a:xfrm>
                <a:off x="4308480" y="5759280"/>
                <a:ext cx="33116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25" name="Picture 11" descr="ва"/>
          <p:cNvPicPr/>
          <p:nvPr/>
        </p:nvPicPr>
        <p:blipFill>
          <a:blip r:embed="rId1"/>
          <a:stretch/>
        </p:blipFill>
        <p:spPr>
          <a:xfrm>
            <a:off x="324000" y="1916280"/>
            <a:ext cx="3311280" cy="3166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126" name="WordArt 4"/>
          <p:cNvSpPr txBox="1"/>
          <p:nvPr/>
        </p:nvSpPr>
        <p:spPr>
          <a:xfrm>
            <a:off x="971640" y="-192240"/>
            <a:ext cx="6696000" cy="157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5. С помощью площадей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ff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/>
          </p:nvPr>
        </p:nvSpPr>
        <p:spPr>
          <a:xfrm>
            <a:off x="-252720" y="1341360"/>
            <a:ext cx="48956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Точки А и 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симметричны относительно биссектрисы ВЕ. Построим  еще точку, симметричную точке С относительно прямой ВЕ. Для этого продолжим отрезок 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Е до пересечения с прямой АВ и обозначим через 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точку пересечения прямых АВ и 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Е. Получим равнобедренный треугольник ВС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, из равенства треугольника ВЕ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 и ВЕС следует, что В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=ВС. Продолжим еще биссектрису ВЕ до пересечения с С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 в точке Н. Тогда ВН - биссектриса треугольника ВС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, а следовательно, и его медиана. Таким образом, Е – точка пересечения медиан треугольника ВС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и поэтому ЕН=0,5ВЕ=2, а ВН=6.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Средняя линия 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 треугольника ВС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делит медиану ВН пополам, поэтому ВО=3. Далее поступаем так же, как при решении задачи другими способами и получаем тот же ответ.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8" name="Object 7"/>
              <p:cNvSpPr txBox="1"/>
              <p:nvPr/>
            </p:nvSpPr>
            <p:spPr>
              <a:xfrm>
                <a:off x="2771640" y="5805360"/>
                <a:ext cx="4464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29" name="Picture 10" descr="ва"/>
          <p:cNvPicPr/>
          <p:nvPr/>
        </p:nvPicPr>
        <p:blipFill>
          <a:blip r:embed="rId1"/>
          <a:stretch/>
        </p:blipFill>
        <p:spPr>
          <a:xfrm>
            <a:off x="4643280" y="1700280"/>
            <a:ext cx="3456000" cy="33051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130" name="WordArt 4"/>
          <p:cNvSpPr txBox="1"/>
          <p:nvPr/>
        </p:nvSpPr>
        <p:spPr>
          <a:xfrm>
            <a:off x="395280" y="-228600"/>
            <a:ext cx="7416720" cy="15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6. С помощью осевой симметрии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/>
          </p:nvPr>
        </p:nvSpPr>
        <p:spPr>
          <a:xfrm>
            <a:off x="4149360" y="1517760"/>
            <a:ext cx="46702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ведём среднюю линию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 треугольника ВСЕ. Так как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 параллельна ВЕ и АО=О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т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Е – средняя линия треугольника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K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едовательно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ак как ВЕ=4, то ОЕ=1 и ВО=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 приведённого решения видно, что отношение ВО/ОЕ не зависит от отрезков ВЕ и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 Найти это отношение можно также, используя лишь тот факт, что 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медиана треугольника АВС и АО=О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причём без всяких вспомогательных построени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3" name="Object 7"/>
              <p:cNvSpPr txBox="1"/>
              <p:nvPr/>
            </p:nvSpPr>
            <p:spPr>
              <a:xfrm>
                <a:off x="4575240" y="3645000"/>
                <a:ext cx="2514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K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ВЕ</m:t>
                    </m:r>
                    <m:r>
                      <m:t xml:space="preserve">,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О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В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11"/>
              <p:cNvSpPr txBox="1"/>
              <p:nvPr/>
            </p:nvSpPr>
            <p:spPr>
              <a:xfrm>
                <a:off x="5178600" y="6237360"/>
                <a:ext cx="273672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35" name="Picture 14" descr="сканирование0001"/>
          <p:cNvPicPr/>
          <p:nvPr/>
        </p:nvPicPr>
        <p:blipFill>
          <a:blip r:embed="rId1"/>
          <a:stretch/>
        </p:blipFill>
        <p:spPr>
          <a:xfrm>
            <a:off x="324000" y="2349360"/>
            <a:ext cx="4103640" cy="2845080"/>
          </a:xfrm>
          <a:prstGeom prst="rect">
            <a:avLst/>
          </a:prstGeom>
          <a:ln w="9360">
            <a:solidFill>
              <a:srgbClr val="ff3399"/>
            </a:solidFill>
            <a:miter/>
          </a:ln>
        </p:spPr>
      </p:pic>
      <p:sp>
        <p:nvSpPr>
          <p:cNvPr id="1136" name="WordArt 4"/>
          <p:cNvSpPr txBox="1"/>
          <p:nvPr/>
        </p:nvSpPr>
        <p:spPr>
          <a:xfrm>
            <a:off x="262080" y="-44280"/>
            <a:ext cx="7616520" cy="15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7. По теореме о средней линии треугольн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/>
          </p:nvPr>
        </p:nvSpPr>
        <p:spPr>
          <a:xfrm>
            <a:off x="-203040" y="1500120"/>
            <a:ext cx="8735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екущая ВЕ пересекает стороны треугольника АС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точках Е и О. По теореме Менелая  из треугольника АС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имеем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 так как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именив теперь теорему Менелая к треугольнику ВСЕ и секущей А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получим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о АЕ/АС=1/3 и С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=DB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ледовательно, ВО/ОЕ=3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Object 6"/>
              <p:cNvSpPr txBox="1"/>
              <p:nvPr/>
            </p:nvSpPr>
            <p:spPr>
              <a:xfrm>
                <a:off x="179280" y="2117880"/>
                <a:ext cx="14414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Object 8"/>
              <p:cNvSpPr txBox="1"/>
              <p:nvPr/>
            </p:nvSpPr>
            <p:spPr>
              <a:xfrm>
                <a:off x="179280" y="2879640"/>
                <a:ext cx="2286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В</m:t>
                    </m:r>
                    <m:r>
                      <m:rPr>
                        <m:lit/>
                        <m:nor/>
                      </m:rPr>
                      <m:t xml:space="preserve">В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OA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А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Е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1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2" name="Object 10"/>
              <p:cNvSpPr txBox="1"/>
              <p:nvPr/>
            </p:nvSpPr>
            <p:spPr>
              <a:xfrm>
                <a:off x="189000" y="4175280"/>
                <a:ext cx="114300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О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ОЕ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Е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С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43" name="Picture 12" descr="сканирование0001"/>
          <p:cNvPicPr/>
          <p:nvPr/>
        </p:nvPicPr>
        <p:blipFill>
          <a:blip r:embed="rId1"/>
          <a:stretch/>
        </p:blipFill>
        <p:spPr>
          <a:xfrm>
            <a:off x="4165560" y="3605040"/>
            <a:ext cx="3421080" cy="2372040"/>
          </a:xfrm>
          <a:prstGeom prst="rect">
            <a:avLst/>
          </a:prstGeom>
          <a:ln w="9360">
            <a:solidFill>
              <a:srgbClr val="ff3399"/>
            </a:solidFill>
            <a:miter/>
          </a:ln>
        </p:spPr>
      </p:pic>
      <p:sp>
        <p:nvSpPr>
          <p:cNvPr id="1144" name="Rectangle 1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5" name="Object 13"/>
              <p:cNvSpPr txBox="1"/>
              <p:nvPr/>
            </p:nvSpPr>
            <p:spPr>
              <a:xfrm>
                <a:off x="2627280" y="6162840"/>
                <a:ext cx="388944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46" name="WordArt 4"/>
          <p:cNvSpPr txBox="1"/>
          <p:nvPr/>
        </p:nvSpPr>
        <p:spPr>
          <a:xfrm>
            <a:off x="395280" y="-38160"/>
            <a:ext cx="7130880" cy="15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8. По теореме Менел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715680" y="18900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орема Менел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Равнобедренный треугольник 3"/>
          <p:cNvSpPr/>
          <p:nvPr/>
        </p:nvSpPr>
        <p:spPr>
          <a:xfrm>
            <a:off x="4403880" y="3772080"/>
            <a:ext cx="1584000" cy="9144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Прямая соединительная линия 5"/>
          <p:cNvSpPr/>
          <p:nvPr/>
        </p:nvSpPr>
        <p:spPr>
          <a:xfrm>
            <a:off x="5987880" y="468648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Прямая соединительная линия 8"/>
          <p:cNvSpPr/>
          <p:nvPr/>
        </p:nvSpPr>
        <p:spPr>
          <a:xfrm>
            <a:off x="3827520" y="3927600"/>
            <a:ext cx="424800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Прямая соединительная линия 11"/>
          <p:cNvSpPr/>
          <p:nvPr/>
        </p:nvSpPr>
        <p:spPr>
          <a:xfrm>
            <a:off x="4403880" y="4686480"/>
            <a:ext cx="0" cy="0"/>
          </a:xfrm>
          <a:prstGeom prst="line">
            <a:avLst/>
          </a:prstGeom>
          <a:ln w="9360">
            <a:solidFill>
              <a:srgbClr val="fded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Прямая соединительная линия 13"/>
          <p:cNvSpPr/>
          <p:nvPr/>
        </p:nvSpPr>
        <p:spPr>
          <a:xfrm flipV="1">
            <a:off x="4403880" y="4070160"/>
            <a:ext cx="142560" cy="61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Прямая соединительная линия 16"/>
          <p:cNvSpPr/>
          <p:nvPr/>
        </p:nvSpPr>
        <p:spPr>
          <a:xfrm flipH="1">
            <a:off x="5051160" y="3772080"/>
            <a:ext cx="144360" cy="40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Прямая соединительная линия 26"/>
          <p:cNvSpPr/>
          <p:nvPr/>
        </p:nvSpPr>
        <p:spPr>
          <a:xfrm flipV="1">
            <a:off x="5987880" y="4378320"/>
            <a:ext cx="7164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Прямая соединительная линия 31"/>
          <p:cNvSpPr/>
          <p:nvPr/>
        </p:nvSpPr>
        <p:spPr>
          <a:xfrm>
            <a:off x="4546440" y="4143240"/>
            <a:ext cx="0" cy="0"/>
          </a:xfrm>
          <a:prstGeom prst="line">
            <a:avLst/>
          </a:prstGeom>
          <a:ln w="9360">
            <a:solidFill>
              <a:srgbClr val="fded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6" name="Объект 43" descr=""/>
          <p:cNvPicPr/>
          <p:nvPr/>
        </p:nvPicPr>
        <p:blipFill>
          <a:blip r:embed="rId1"/>
          <a:stretch/>
        </p:blipFill>
        <p:spPr>
          <a:xfrm>
            <a:off x="201600" y="1030320"/>
            <a:ext cx="7894800" cy="2895480"/>
          </a:xfrm>
          <a:prstGeom prst="rect">
            <a:avLst/>
          </a:prstGeom>
          <a:ln w="0">
            <a:noFill/>
          </a:ln>
        </p:spPr>
      </p:pic>
      <p:sp>
        <p:nvSpPr>
          <p:cNvPr id="1157" name="TextBox 44"/>
          <p:cNvSpPr/>
          <p:nvPr/>
        </p:nvSpPr>
        <p:spPr>
          <a:xfrm>
            <a:off x="5030640" y="3413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TextBox 45"/>
          <p:cNvSpPr/>
          <p:nvPr/>
        </p:nvSpPr>
        <p:spPr>
          <a:xfrm>
            <a:off x="4128120" y="46134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TextBox 46"/>
          <p:cNvSpPr/>
          <p:nvPr/>
        </p:nvSpPr>
        <p:spPr>
          <a:xfrm>
            <a:off x="4300200" y="37418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TextBox 47"/>
          <p:cNvSpPr/>
          <p:nvPr/>
        </p:nvSpPr>
        <p:spPr>
          <a:xfrm>
            <a:off x="5896800" y="46134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TextBox 48"/>
          <p:cNvSpPr/>
          <p:nvPr/>
        </p:nvSpPr>
        <p:spPr>
          <a:xfrm>
            <a:off x="5999760" y="40752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TextBox 49"/>
          <p:cNvSpPr/>
          <p:nvPr/>
        </p:nvSpPr>
        <p:spPr>
          <a:xfrm>
            <a:off x="4835520" y="41432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TextBox 50"/>
          <p:cNvSpPr/>
          <p:nvPr/>
        </p:nvSpPr>
        <p:spPr>
          <a:xfrm>
            <a:off x="5599800" y="3975120"/>
            <a:ext cx="3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TextBox 51"/>
          <p:cNvSpPr/>
          <p:nvPr/>
        </p:nvSpPr>
        <p:spPr>
          <a:xfrm>
            <a:off x="4640040" y="377352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TextBox 52"/>
          <p:cNvSpPr/>
          <p:nvPr/>
        </p:nvSpPr>
        <p:spPr>
          <a:xfrm>
            <a:off x="7391520" y="437832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Заголовок 1"/>
          <p:cNvSpPr/>
          <p:nvPr/>
        </p:nvSpPr>
        <p:spPr>
          <a:xfrm>
            <a:off x="868320" y="341280"/>
            <a:ext cx="6870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WordArt 6"/>
          <p:cNvSpPr txBox="1"/>
          <p:nvPr/>
        </p:nvSpPr>
        <p:spPr>
          <a:xfrm>
            <a:off x="1817640" y="235080"/>
            <a:ext cx="550872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Вывод: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68" name="Text Box 8"/>
          <p:cNvSpPr/>
          <p:nvPr/>
        </p:nvSpPr>
        <p:spPr>
          <a:xfrm>
            <a:off x="611280" y="1844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ходе работы мы рассмотрели пять методов решения конкретной задачи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Rectangle 9"/>
          <p:cNvSpPr/>
          <p:nvPr/>
        </p:nvSpPr>
        <p:spPr>
          <a:xfrm>
            <a:off x="2916360" y="2139840"/>
            <a:ext cx="2808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ординатный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450720" indent="-4507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екторный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450720" indent="-4507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450720" indent="-4507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ригонометрический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450720" indent="-4507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еометрический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450720" indent="-4507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Text Box 10"/>
          <p:cNvSpPr/>
          <p:nvPr/>
        </p:nvSpPr>
        <p:spPr>
          <a:xfrm>
            <a:off x="539640" y="3500280"/>
            <a:ext cx="777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 правило, основными методами решения планиметрических задач на вычисления являются алгебраические и тригонометрические методы. Но как видно из работы, геометрические методы оказались проще и изящнее, хотя к ним можно прийти только догадавшись провести некоторые вспомогательные линии. Таким образом, важно владеть геометрическими приёмами, которые позволяют найти наиболее простое и красивое решение с помощью дополнительных построений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666699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WordArt 4"/>
          <p:cNvSpPr txBox="1"/>
          <p:nvPr/>
        </p:nvSpPr>
        <p:spPr>
          <a:xfrm rot="21312000">
            <a:off x="395280" y="260280"/>
            <a:ext cx="367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ведение</a:t>
            </a:r>
            <a:endParaRPr b="1" i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3865680" y="1251000"/>
            <a:ext cx="4593960" cy="1871640"/>
          </a:xfrm>
          <a:prstGeom prst="rect">
            <a:avLst/>
          </a:prstGeom>
          <a:solidFill>
            <a:srgbClr val="ff9900">
              <a:alpha val="8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074"/>
                </a:solidFill>
                <a:latin typeface="Comic Sans MS"/>
              </a:rPr>
              <a:t>Для успешного изучения геометр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074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1e0074"/>
                </a:solidFill>
                <a:latin typeface="Comic Sans MS"/>
              </a:rPr>
              <a:t>необходимо знать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074"/>
                </a:solidFill>
                <a:latin typeface="Comic Sans MS"/>
              </a:rPr>
              <a:t>не только основные формулы 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074"/>
                </a:solidFill>
                <a:latin typeface="Comic Sans MS"/>
              </a:rPr>
              <a:t>теоремы, но и владеть различным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074"/>
                </a:solidFill>
                <a:latin typeface="Comic Sans MS"/>
              </a:rPr>
              <a:t>методами решения задач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/>
          </p:nvPr>
        </p:nvSpPr>
        <p:spPr>
          <a:xfrm>
            <a:off x="468360" y="342864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ять основных методов, применяемых в решении задач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Rectangle 9"/>
          <p:cNvSpPr/>
          <p:nvPr/>
        </p:nvSpPr>
        <p:spPr>
          <a:xfrm>
            <a:off x="4356000" y="4005360"/>
            <a:ext cx="439272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ординатны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кторны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налитическ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ригонометрическ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еометрическ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AutoShape 23"/>
          <p:cNvSpPr/>
          <p:nvPr/>
        </p:nvSpPr>
        <p:spPr>
          <a:xfrm rot="20675400">
            <a:off x="934920" y="4186080"/>
            <a:ext cx="2592360" cy="2087640"/>
          </a:xfrm>
          <a:custGeom>
            <a:avLst/>
            <a:gdLst>
              <a:gd name="textAreaLeft" fmla="*/ 591840 w 2592360"/>
              <a:gd name="textAreaRight" fmla="*/ 2000520 w 2592360"/>
              <a:gd name="textAreaTop" fmla="*/ 476640 h 2087640"/>
              <a:gd name="textAreaBottom" fmla="*/ 16110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WordArt 4"/>
          <p:cNvSpPr txBox="1"/>
          <p:nvPr/>
        </p:nvSpPr>
        <p:spPr>
          <a:xfrm>
            <a:off x="2484360" y="404640"/>
            <a:ext cx="41752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Гипотез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pic>
        <p:nvPicPr>
          <p:cNvPr id="1041" name="Picture 6" descr="baby18"/>
          <p:cNvPicPr/>
          <p:nvPr/>
        </p:nvPicPr>
        <p:blipFill>
          <a:blip r:embed="rId1"/>
          <a:stretch/>
        </p:blipFill>
        <p:spPr>
          <a:xfrm>
            <a:off x="154080" y="4503600"/>
            <a:ext cx="1535040" cy="2232000"/>
          </a:xfrm>
          <a:prstGeom prst="rect">
            <a:avLst/>
          </a:prstGeom>
          <a:ln w="0">
            <a:noFill/>
          </a:ln>
        </p:spPr>
      </p:pic>
      <p:sp>
        <p:nvSpPr>
          <p:cNvPr id="1042" name="WordArt 10"/>
          <p:cNvSpPr txBox="1"/>
          <p:nvPr/>
        </p:nvSpPr>
        <p:spPr>
          <a:xfrm>
            <a:off x="8244000" y="4827600"/>
            <a:ext cx="5745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3" name="WordArt 11"/>
          <p:cNvSpPr txBox="1"/>
          <p:nvPr/>
        </p:nvSpPr>
        <p:spPr>
          <a:xfrm>
            <a:off x="7596360" y="5516640"/>
            <a:ext cx="502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4" name="WordArt 12"/>
          <p:cNvSpPr txBox="1"/>
          <p:nvPr/>
        </p:nvSpPr>
        <p:spPr>
          <a:xfrm>
            <a:off x="7140600" y="6159600"/>
            <a:ext cx="3589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5" name="TextBox 1"/>
          <p:cNvSpPr/>
          <p:nvPr/>
        </p:nvSpPr>
        <p:spPr>
          <a:xfrm>
            <a:off x="1195560" y="1773360"/>
            <a:ext cx="73418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abriola"/>
                <a:ea typeface="Cambria Math"/>
              </a:rPr>
              <a:t>Возможно ли решить конкретную задачу всеми указанными способами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10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10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10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WordArt 4"/>
          <p:cNvSpPr txBox="1"/>
          <p:nvPr/>
        </p:nvSpPr>
        <p:spPr>
          <a:xfrm>
            <a:off x="250920" y="181764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Цель работы:</a:t>
            </a:r>
            <a:endParaRPr b="1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/>
          </p:nvPr>
        </p:nvSpPr>
        <p:spPr>
          <a:xfrm>
            <a:off x="477360" y="3692520"/>
            <a:ext cx="769644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дачи работы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робовать разные методы на одной задаче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ыявить  отличительные черты, сильные и слабые стороны разных метод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8" name="Picture 10" descr="Рисунок92"/>
          <p:cNvPicPr/>
          <p:nvPr/>
        </p:nvPicPr>
        <p:blipFill>
          <a:blip r:embed="rId1"/>
          <a:stretch/>
        </p:blipFill>
        <p:spPr>
          <a:xfrm>
            <a:off x="7308720" y="5129280"/>
            <a:ext cx="1498680" cy="1655640"/>
          </a:xfrm>
          <a:prstGeom prst="rect">
            <a:avLst/>
          </a:prstGeom>
          <a:ln w="0">
            <a:noFill/>
          </a:ln>
        </p:spPr>
      </p:pic>
      <p:sp>
        <p:nvSpPr>
          <p:cNvPr id="1049" name="WordArt 9"/>
          <p:cNvSpPr txBox="1"/>
          <p:nvPr/>
        </p:nvSpPr>
        <p:spPr>
          <a:xfrm>
            <a:off x="3186000" y="1460520"/>
            <a:ext cx="4996080" cy="19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учиться распознаванию и использованию </a:t>
            </a:r>
            <a:endParaRPr b="0" lang="en-US" sz="1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тематических методов при</a:t>
            </a:r>
            <a:endParaRPr b="0" lang="en-US" sz="1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смотрении различных решении</a:t>
            </a:r>
            <a:endParaRPr b="0" lang="en-US" sz="1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ной и той же задачи</a:t>
            </a:r>
            <a:endParaRPr b="0" lang="en-US" sz="1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0" name="WordArt 4"/>
          <p:cNvSpPr txBox="1"/>
          <p:nvPr/>
        </p:nvSpPr>
        <p:spPr>
          <a:xfrm>
            <a:off x="1584360" y="-55440"/>
            <a:ext cx="4995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Цели и зада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31640" y="777960"/>
            <a:ext cx="8280720" cy="194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треугольнике АВС биссектриса ВЕ и медиан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пендикулярны  и имеют одинаковую длину, равную 4. Найти стороны треугольника АВ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6"/>
          <p:cNvSpPr/>
          <p:nvPr/>
        </p:nvSpPr>
        <p:spPr>
          <a:xfrm>
            <a:off x="4500720" y="3544920"/>
            <a:ext cx="4572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тупая к решению задачи, сразу замечаем, что если О – точка пересечения биссектрисы ВЕ и медиа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 прямоугольные треугольни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равны. Поэтому АО=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и АВ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ак что ВС=2А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3" name="Picture 8" descr="с"/>
          <p:cNvPicPr/>
          <p:nvPr/>
        </p:nvPicPr>
        <p:blipFill>
          <a:blip r:embed="rId2"/>
          <a:stretch/>
        </p:blipFill>
        <p:spPr>
          <a:xfrm>
            <a:off x="252360" y="3141720"/>
            <a:ext cx="4448160" cy="3240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cover dir="l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2411280" y="1425240"/>
            <a:ext cx="6337440" cy="18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мем точку О за начало прямоугольной системы координат, оси Ох придадим направление вектора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D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будем считать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диницей масштаб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данной системе точки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, D, B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меют координаты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 (-2;0)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(2;0) и В (0;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8" name="Object 14"/>
              <p:cNvSpPr txBox="1"/>
              <p:nvPr/>
            </p:nvSpPr>
            <p:spPr>
              <a:xfrm>
                <a:off x="5111640" y="1971720"/>
                <a:ext cx="524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D</m:t>
                            </m:r>
                          </m:e>
                        </m:acc>
                      </m:e>
                    </m:d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9" name="Rectangle 16"/>
          <p:cNvSpPr/>
          <p:nvPr/>
        </p:nvSpPr>
        <p:spPr>
          <a:xfrm>
            <a:off x="108000" y="3284640"/>
            <a:ext cx="834372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того чтобы определить длины сторон треугольника АВС, надо найти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число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ыразим через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координаты точек С и Е. Так как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 –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ередина отрезка ВС, то С (4;-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). Для точки Е имеем координаты (0;у). Вторую координату точки Е найдем, пользуясь, тем что точка Е принадлежит прямой АС. Уравнение прямой АС имеет вид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оординаты точки Е (0;у) удовлетворяют этому уравнению. Подставив в него 0 вместо х, получим:           Следовательно,           По условию задачи ВЕ=4, значит,        , или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=3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так, А (-2;0), В (0;3), С (4;-3). Зная координаты вершин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реугольника АВС, найдем его стороны:             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Rectangle 1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1" name="Object 18"/>
              <p:cNvSpPr txBox="1"/>
              <p:nvPr/>
            </p:nvSpPr>
            <p:spPr>
              <a:xfrm>
                <a:off x="4280040" y="4275000"/>
                <a:ext cx="690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2" name="Rectangle 2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3" name="Object 20"/>
              <p:cNvSpPr txBox="1"/>
              <p:nvPr/>
            </p:nvSpPr>
            <p:spPr>
              <a:xfrm>
                <a:off x="2763720" y="4811760"/>
                <a:ext cx="5810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4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Object 22"/>
              <p:cNvSpPr txBox="1"/>
              <p:nvPr/>
            </p:nvSpPr>
            <p:spPr>
              <a:xfrm>
                <a:off x="5025960" y="4819680"/>
                <a:ext cx="609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6" name="Rectangle 2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Object 24"/>
              <p:cNvSpPr txBox="1"/>
              <p:nvPr/>
            </p:nvSpPr>
            <p:spPr>
              <a:xfrm>
                <a:off x="1231920" y="5067360"/>
                <a:ext cx="485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8" name="Rectangle 27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9" name="Object 26"/>
              <p:cNvSpPr txBox="1"/>
              <p:nvPr/>
            </p:nvSpPr>
            <p:spPr>
              <a:xfrm>
                <a:off x="5181480" y="5950080"/>
                <a:ext cx="271620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070" name="Picture 28" descr="с"/>
          <p:cNvPicPr/>
          <p:nvPr/>
        </p:nvPicPr>
        <p:blipFill>
          <a:blip r:embed="rId1"/>
          <a:stretch/>
        </p:blipFill>
        <p:spPr>
          <a:xfrm>
            <a:off x="250920" y="1400040"/>
            <a:ext cx="2449440" cy="1782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71" name="WordArt 4"/>
          <p:cNvSpPr txBox="1"/>
          <p:nvPr/>
        </p:nvSpPr>
        <p:spPr>
          <a:xfrm>
            <a:off x="2073240" y="44280"/>
            <a:ext cx="49975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1. Координат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место уравнения прямой в отрезка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висимость между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олучим из подобия треугольников АОЕ 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FC  AO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E=AF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fld id="{CC6411A8-BAD6-4D9F-9568-95D4839BD798}" type="slidenum">
              <a:rPr b="0" lang="ru-RU" sz="3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=6(-b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Значи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(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3.Далее как в презента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/>
          </p:nvPr>
        </p:nvSpPr>
        <p:spPr>
          <a:xfrm>
            <a:off x="610920" y="1844640"/>
            <a:ext cx="7623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екторы ВЕ и АД выразим через а и с.Так как ВС=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D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то СЕ=2АЕ( по свойству биссектрисы треугольника). Пользуясь формулой деления отрезка в данном отношении, получим: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гласно вычитанию векторов, имеем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ины векторов ВЕ и А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звестны. Пуст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ычислив  скалярные квадраты вектором ВЕ и А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лучим уравнения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йдем теперь через сторону АС, пользуясь векторной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ормулировкой теоремы косинусов:     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дставим найденные выше значения и получим: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Rectangle 1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6" name="Object 12"/>
              <p:cNvSpPr txBox="1"/>
              <p:nvPr/>
            </p:nvSpPr>
            <p:spPr>
              <a:xfrm>
                <a:off x="1476360" y="1341360"/>
                <a:ext cx="15843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А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  <m:r>
                          <m:t xml:space="preserve">,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77" name="Rectangle 1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8" name="Object 14"/>
              <p:cNvSpPr txBox="1"/>
              <p:nvPr/>
            </p:nvSpPr>
            <p:spPr>
              <a:xfrm>
                <a:off x="5003640" y="2290680"/>
                <a:ext cx="10796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Е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9" name="Rectangle 1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0" name="Object 16"/>
              <p:cNvSpPr txBox="1"/>
              <p:nvPr/>
            </p:nvSpPr>
            <p:spPr>
              <a:xfrm>
                <a:off x="4967280" y="2573280"/>
                <a:ext cx="11523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D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81" name="Rectangle 1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2" name="Object 18"/>
              <p:cNvSpPr txBox="1"/>
              <p:nvPr/>
            </p:nvSpPr>
            <p:spPr>
              <a:xfrm>
                <a:off x="5276880" y="3227400"/>
                <a:ext cx="15127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а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гда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3" name="Rectangle 21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Object 20"/>
              <p:cNvSpPr txBox="1"/>
              <p:nvPr/>
            </p:nvSpPr>
            <p:spPr>
              <a:xfrm>
                <a:off x="5105520" y="3797280"/>
                <a:ext cx="13665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5" name="Rectangle 25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6" name="Object 24"/>
              <p:cNvSpPr txBox="1"/>
              <p:nvPr/>
            </p:nvSpPr>
            <p:spPr>
              <a:xfrm>
                <a:off x="5118120" y="4491000"/>
                <a:ext cx="27367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Значит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,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7" name="Rectangle 2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Object 26"/>
              <p:cNvSpPr txBox="1"/>
              <p:nvPr/>
            </p:nvSpPr>
            <p:spPr>
              <a:xfrm>
                <a:off x="5580000" y="5605560"/>
                <a:ext cx="1209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89" name="Rectangle 2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0" name="Object 28"/>
              <p:cNvSpPr txBox="1"/>
              <p:nvPr/>
            </p:nvSpPr>
            <p:spPr>
              <a:xfrm>
                <a:off x="6621480" y="5894280"/>
                <a:ext cx="685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091" name="Picture 30" descr="Копия с"/>
          <p:cNvPicPr/>
          <p:nvPr/>
        </p:nvPicPr>
        <p:blipFill>
          <a:blip r:embed="rId1"/>
          <a:stretch/>
        </p:blipFill>
        <p:spPr>
          <a:xfrm>
            <a:off x="1116000" y="3860640"/>
            <a:ext cx="1944720" cy="1416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92" name="WordArt 4"/>
          <p:cNvSpPr txBox="1"/>
          <p:nvPr/>
        </p:nvSpPr>
        <p:spPr>
          <a:xfrm>
            <a:off x="1187280" y="-144360"/>
            <a:ext cx="6126480" cy="15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2. Векторны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Е получено по лемме на стр. 134 А.Г.Мерзляк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класс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4" name="Объект 2" descr=""/>
          <p:cNvPicPr/>
          <p:nvPr/>
        </p:nvPicPr>
        <p:blipFill>
          <a:blip r:embed="rId1"/>
          <a:stretch/>
        </p:blipFill>
        <p:spPr>
          <a:xfrm>
            <a:off x="487440" y="1908000"/>
            <a:ext cx="7894440" cy="3822840"/>
          </a:xfrm>
          <a:prstGeom prst="rect">
            <a:avLst/>
          </a:prstGeom>
          <a:ln w="0">
            <a:noFill/>
          </a:ln>
        </p:spPr>
      </p:pic>
      <p:cxnSp>
        <p:nvCxnSpPr>
          <p:cNvPr id="1095" name="Прямая со стрелкой 4"/>
          <p:cNvCxnSpPr/>
          <p:nvPr/>
        </p:nvCxnSpPr>
        <p:spPr>
          <a:xfrm>
            <a:off x="2339640" y="3998520"/>
            <a:ext cx="57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6" name="Прямая со стрелкой 6"/>
          <p:cNvCxnSpPr/>
          <p:nvPr/>
        </p:nvCxnSpPr>
        <p:spPr>
          <a:xfrm>
            <a:off x="3850920" y="3995280"/>
            <a:ext cx="57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7" name="Прямая со стрелкой 7"/>
          <p:cNvCxnSpPr/>
          <p:nvPr/>
        </p:nvCxnSpPr>
        <p:spPr>
          <a:xfrm>
            <a:off x="782640" y="4005000"/>
            <a:ext cx="57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8" name="Прямая со стрелкой 9"/>
          <p:cNvCxnSpPr/>
          <p:nvPr/>
        </p:nvCxnSpPr>
        <p:spPr>
          <a:xfrm flipH="1" flipV="1">
            <a:off x="6084000" y="4328280"/>
            <a:ext cx="72360" cy="86436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099" name="Прямая со стрелкой 12"/>
          <p:cNvCxnSpPr/>
          <p:nvPr/>
        </p:nvCxnSpPr>
        <p:spPr>
          <a:xfrm>
            <a:off x="6156000" y="5192640"/>
            <a:ext cx="1872360" cy="2167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100" name="Прямая соединительная линия 15"/>
          <p:cNvSpPr/>
          <p:nvPr/>
        </p:nvSpPr>
        <p:spPr>
          <a:xfrm>
            <a:off x="6084720" y="4329000"/>
            <a:ext cx="194328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01" name="Прямая со стрелкой 18"/>
          <p:cNvCxnSpPr/>
          <p:nvPr/>
        </p:nvCxnSpPr>
        <p:spPr>
          <a:xfrm flipV="1">
            <a:off x="6156360" y="4760280"/>
            <a:ext cx="720000" cy="43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02" name="TextBox 20"/>
          <p:cNvSpPr/>
          <p:nvPr/>
        </p:nvSpPr>
        <p:spPr>
          <a:xfrm>
            <a:off x="5757120" y="40370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TextBox 21"/>
          <p:cNvSpPr/>
          <p:nvPr/>
        </p:nvSpPr>
        <p:spPr>
          <a:xfrm>
            <a:off x="5926680" y="51944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TextBox 22"/>
          <p:cNvSpPr/>
          <p:nvPr/>
        </p:nvSpPr>
        <p:spPr>
          <a:xfrm>
            <a:off x="6804360" y="44593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TextBox 23"/>
          <p:cNvSpPr/>
          <p:nvPr/>
        </p:nvSpPr>
        <p:spPr>
          <a:xfrm>
            <a:off x="7997760" y="53085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12:22:38Z</dcterms:created>
  <dc:creator>андр</dc:creator>
  <dc:description/>
  <dc:language>en-US</dc:language>
  <cp:lastModifiedBy>Owner</cp:lastModifiedBy>
  <cp:lastPrinted>2022-10-17T22:29:42Z</cp:lastPrinted>
  <dcterms:modified xsi:type="dcterms:W3CDTF">2022-11-15T03:33:40Z</dcterms:modified>
  <cp:revision>69</cp:revision>
  <dc:subject/>
  <dc:title>Слайд 1</dc:title>
</cp:coreProperties>
</file>