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8618-0ED1-46B9-8C9F-E4B677A6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D55C-E0F5-424A-8CC3-75E6E2C6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31ED-C916-46BF-B659-C70FCF7E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A3ED-C021-4113-945A-89F3BCD7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43A0-9067-4DAD-9257-356A8C54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7E76-10F4-4E14-89CD-DE765A99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DECE-AA7C-40E7-AB07-9C8FB34E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87C6-4D0C-4C17-8772-456096A0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DB8B-DDBE-4C1D-889C-FB02BAD2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C440-B43D-4F81-8051-AB51C161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B8E1-AFC1-4FE2-803B-F34DA323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0D9D-42E9-4D60-BF0B-134746AD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4952-2637-4751-83ED-9866F55068B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80880"/>
            <a:ext cx="7920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ешение задач на дроби и проценты</a:t>
            </a:r>
            <a:br>
              <a:rPr sz="32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с использованием материалов по краеведению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787640" y="4847760"/>
            <a:ext cx="397188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рок учителя математики МБОУ Гатчинская СОШ №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омовой Натальи Андреев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WordArt 19"/>
          <p:cNvSpPr txBox="1"/>
          <p:nvPr/>
        </p:nvSpPr>
        <p:spPr>
          <a:xfrm>
            <a:off x="6516720" y="1628640"/>
            <a:ext cx="10476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атчин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760000"/>
                  </a:gs>
                  <a:gs pos="5000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22" descr="q1"/>
          <p:cNvPicPr/>
          <p:nvPr/>
        </p:nvPicPr>
        <p:blipFill>
          <a:blip r:embed="rId1"/>
          <a:stretch/>
        </p:blipFill>
        <p:spPr>
          <a:xfrm>
            <a:off x="755640" y="1700280"/>
            <a:ext cx="3618000" cy="482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4" descr="Рисунок2"/>
          <p:cNvPicPr/>
          <p:nvPr/>
        </p:nvPicPr>
        <p:blipFill>
          <a:blip r:embed="rId2"/>
          <a:stretch/>
        </p:blipFill>
        <p:spPr>
          <a:xfrm>
            <a:off x="6372360" y="2000160"/>
            <a:ext cx="1780920" cy="22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5050"/>
                </a:solidFill>
                <a:uFillTx/>
                <a:latin typeface="Tahoma"/>
              </a:rPr>
              <a:t>Самостоятельная работ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 Вариан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1.   Зная, что 1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/4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площади Дворцового парка  занимают озера, а площадь Дворцового парка равна 143 га, найдите площадь озер. Ответ  округлите до единиц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2.   Площадь Дворцового парка 140 га, и она составляет 20% площади   всего Дворцово - паркового ансамбля. Найдите площадь Дворцово -  паркового ансамбля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3.    Площадь Белого озера 20 га. Площадь водного массива перед Гатчинским дворцом 36 га. Какую часть составляет площадь Белого озера от площади всего водного массива?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Дополнительное задание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Найдите площадь дворцово-паркового  ансамбля, зная что его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4/7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занимает парк Зверинец,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8/15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остатка – занимает Приоратский парк, а  оставшиеся 140 га занимает Дворцовый парк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28280"/>
            <a:ext cx="40384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 Вариан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1.   Площадь Белого озера 20 га, и она составляет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5/9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от площади водного  массива, расположенного перед Гатчинским дворцом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Найдите площадь этого водного массива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.   Площадь Дворцово - паркового ансамбля 700 га, 22% от этой площади занимает Приоратский парк. Найдите площадь Приоратского парка.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3.    Площадь Дворцового парка 143 га, площадь Верхнего Голландского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сада 2,6 га.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Какую часть составляет площадь Голландского сада от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площади Дворцового парка?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Дополнительное задание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Найдите площадь дворцово-паркового  ансамбля, зная что  его 1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/5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занимает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Дворцовый парк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,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5/7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остатка – занимает парк Зверинец, а  оставшиеся 160 га занимает Приоратский парк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5ffff"/>
                </a:solidFill>
                <a:latin typeface="Tahoma"/>
              </a:rPr>
              <a:t>Ответы и решения к самостоятельной работе</a:t>
            </a:r>
            <a:endParaRPr b="0" lang="en-US" sz="3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вариант: ≈ 36га;  700га;  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9 ча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 вариант:     36га;  154га ;  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5 ча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,6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/143=26/1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∙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3=13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∙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/1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∙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∙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=1/5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3/4=35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5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≈36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шение дополнительной зада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способ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) 1-4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/7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=3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/7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части)-остато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) 3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/7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∙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/15=8/35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сти)-всего ансамбля занимает Приора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) 4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/7+8/35=28/35=4/5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сти)-всего ансамбля занимают Приорат и Зверинец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) 1-4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/5=1/5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сть)-всего ансамбля занимает Дворцовый парк, и это по условию 140г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) 140: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=140 ∙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/1=700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площадь всего ансамбл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вет: 700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 спосо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– остаток, тог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) 1-8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=7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/15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сть) остатка занимает Дворцовый парк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это по условию140 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) 14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7/15=140/1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∙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/7=300 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а) остат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) 1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/7=3/7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сти) остаток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он равен 300 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) 30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3/7=300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∙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/3=300/1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∙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/3=700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а) площадь всего ансамбл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 700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1118880" y="714240"/>
            <a:ext cx="533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ение дополнительной задачи 2 вариан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0" y="1928880"/>
            <a:ext cx="8942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)1-1/5=4/5(части) остат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)4/5*5/7=4/7 (части)занимает парк Зверинец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)1/5+4/7=27/35 (части) занимают Дворцовый парк и парк Зверинец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)1-27/35=8/35(части) занимает Приоратский пар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)160:8/35=160*35/8=700(га) площадь дворцово-паркового ансамбл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вет:700 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Урок: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«Решение задач на дроби и проценты по материалам краеведения»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981080"/>
            <a:ext cx="818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Тип урока: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вторительно-обобщающий (комбинированный) ур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Цель урок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: повторить типы задач на дроби и проценты, используя задания, связанные с г. Гатчи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Задачи урок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разовательны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вторение и закрепление умения решать задачи на дроби и проценты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вторение понятия НОД и НОК, признаков делимости, простых и составных чисе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вивающ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вивать внимание, логику, память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вивать умение грамотно излагать свои мысли в устной и письменной речи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вивать умение применять знания в нестандартной ситуа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спитательные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действовать воспитанию чувства гордости, восхищения, любви к родному городу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ширять кругозор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вивать интерес к предмет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борудование к уроку: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ультимедийный проектор, компьютер, экран, карточк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457200" y="380880"/>
            <a:ext cx="8229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Числа близне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52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ва простых числа,  разность которых равна 2, называют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близнецам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9280" y="2133720"/>
          <a:ext cx="8785440" cy="4465440"/>
        </p:xfrm>
        <a:graphic>
          <a:graphicData uri="http://schemas.openxmlformats.org/drawingml/2006/table">
            <a:tbl>
              <a:tblPr/>
              <a:tblGrid>
                <a:gridCol w="419040"/>
                <a:gridCol w="417600"/>
                <a:gridCol w="419040"/>
                <a:gridCol w="417600"/>
                <a:gridCol w="419040"/>
                <a:gridCol w="417600"/>
                <a:gridCol w="419040"/>
                <a:gridCol w="417600"/>
                <a:gridCol w="419040"/>
                <a:gridCol w="417600"/>
                <a:gridCol w="419040"/>
                <a:gridCol w="417600"/>
                <a:gridCol w="419040"/>
                <a:gridCol w="417600"/>
                <a:gridCol w="419040"/>
                <a:gridCol w="417600"/>
                <a:gridCol w="419040"/>
                <a:gridCol w="417600"/>
                <a:gridCol w="419040"/>
                <a:gridCol w="417600"/>
                <a:gridCol w="41904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2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3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4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5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8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8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9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1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12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13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15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16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1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1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2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22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23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25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25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26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27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29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3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3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33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33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35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35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3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3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37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38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38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39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40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40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3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3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4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44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44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45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4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47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48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49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49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50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50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2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54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54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55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56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6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7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57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58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59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6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6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63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4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4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64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65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5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6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67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68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69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0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0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2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3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4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5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5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6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8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9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0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2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2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2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8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85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5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5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86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87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88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9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9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9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92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93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94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94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95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9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97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97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98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99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99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5050"/>
                </a:solidFill>
                <a:uFillTx/>
                <a:latin typeface="Eurasia"/>
              </a:rPr>
              <a:t>Математический диктант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1) Расстояние от Санкт-Петербурга до Гатчины равно  НОК(5 и 9).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2) Запишите Площадь парка Сильвия, зная, что она больше 15 га, и это число, расположенное между числами близнецами второго десятк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3) По данным одной из книг о Гатчине площадь Дворцового парка 143 га, а площадь. Приоратского парка 154 га. Чем интересны эти числа? Что общего у них? Запишите НОД(143 и 154).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4) Запишите половину НОК(143 и 154).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5) Вы запишете год, в котором был посажен самый старый дуб в Гатчин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Он растёт на Серебряном лугу перед Гатчинским дворцом. Известно, что он был посажен более двухсот и менее трёхсот лет назад. Вы легко запишете две первые цифры. Третья цифра равна сумме двух первых, а четвёртая – единственное чётное простое число.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6) Запишите высоту Адмиралтейских ворот, зная, что она составляет 130% от высоты Чесменского обелиска, а его высота 10 м.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7) Если год посадки дуба делится и на 2, и на 9, то запишите произведение двух 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девяти; если не делится, то запишите 0.</a:t>
            </a:r>
            <a:r>
              <a:rPr b="0" i="1" lang="ru-RU" sz="1800" spc="-1" strike="noStrike">
                <a:solidFill>
                  <a:srgbClr val="ffffff"/>
                </a:solidFill>
                <a:latin typeface="Shruti"/>
              </a:rPr>
              <a:t>    </a:t>
            </a:r>
            <a:r>
              <a:rPr b="0" i="1" lang="ru-RU" sz="1600" spc="-1" strike="noStrike">
                <a:solidFill>
                  <a:srgbClr val="ffffff"/>
                </a:solidFill>
                <a:latin typeface="Shruti"/>
              </a:rPr>
              <a:t>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4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2" dur="indefinite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3" dur="indefinite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6" dur="indefinite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7" dur="indefinite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7" dur="indefinite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8" dur="indefinite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1" nodeType="after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3" dur="indefinite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4" dur="indefinite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7" dur="indefinite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8" dur="indefinite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Ответы к математическому диктанту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4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) 1001(=7∙11∙1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 178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) 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) 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85840" y="3000240"/>
          <a:ext cx="8643960" cy="741600"/>
        </p:xfrm>
        <a:graphic>
          <a:graphicData uri="http://schemas.openxmlformats.org/drawingml/2006/table">
            <a:tbl>
              <a:tblPr/>
              <a:tblGrid>
                <a:gridCol w="657000"/>
                <a:gridCol w="658800"/>
                <a:gridCol w="750960"/>
                <a:gridCol w="657360"/>
                <a:gridCol w="1128600"/>
                <a:gridCol w="750960"/>
                <a:gridCol w="1127160"/>
                <a:gridCol w="752400"/>
                <a:gridCol w="1127160"/>
                <a:gridCol w="10335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чи первого тип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57" name="Organization Chart 7"/>
          <p:cNvGrpSpPr/>
          <p:nvPr/>
        </p:nvGrpSpPr>
        <p:grpSpPr>
          <a:xfrm>
            <a:off x="431640" y="2314440"/>
            <a:ext cx="8208720" cy="1784520"/>
            <a:chOff x="431640" y="2314440"/>
            <a:chExt cx="8208720" cy="1784520"/>
          </a:xfrm>
        </p:grpSpPr>
        <p:cxnSp>
          <p:nvCxnSpPr>
            <p:cNvPr id="58" name="_s1028"/>
            <p:cNvCxnSpPr>
              <a:stCxn id="59" idx="0"/>
              <a:endCxn id="60" idx="2"/>
            </p:cNvCxnSpPr>
            <p:nvPr/>
          </p:nvCxnSpPr>
          <p:spPr>
            <a:xfrm flipV="1" rot="16200000">
              <a:off x="5838120" y="1789200"/>
              <a:ext cx="229320" cy="2834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" name="_s1029"/>
            <p:cNvCxnSpPr>
              <a:stCxn id="62" idx="0"/>
              <a:endCxn id="60" idx="2"/>
            </p:cNvCxnSpPr>
            <p:nvPr/>
          </p:nvCxnSpPr>
          <p:spPr>
            <a:xfrm flipV="1">
              <a:off x="4536000" y="3091680"/>
              <a:ext cx="2520" cy="22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" name="_s1030"/>
            <p:cNvCxnSpPr>
              <a:stCxn id="64" idx="0"/>
              <a:endCxn id="60" idx="2"/>
            </p:cNvCxnSpPr>
            <p:nvPr/>
          </p:nvCxnSpPr>
          <p:spPr>
            <a:xfrm flipH="1" flipV="1" rot="5400000">
              <a:off x="3004560" y="1789200"/>
              <a:ext cx="229320" cy="2834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" name="_s1031"/>
            <p:cNvSpPr/>
            <p:nvPr/>
          </p:nvSpPr>
          <p:spPr>
            <a:xfrm>
              <a:off x="2668680" y="2314440"/>
              <a:ext cx="3735000" cy="777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Дворцово-парковый ансамбль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700 г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_s1032"/>
            <p:cNvSpPr/>
            <p:nvPr/>
          </p:nvSpPr>
          <p:spPr>
            <a:xfrm>
              <a:off x="431640" y="3321000"/>
              <a:ext cx="2541240" cy="777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Garamond"/>
                </a:rPr>
                <a:t>Парк Зверинец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Garamond"/>
                </a:rPr>
                <a:t>4</a:t>
              </a: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/7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_s1033"/>
            <p:cNvSpPr/>
            <p:nvPr/>
          </p:nvSpPr>
          <p:spPr>
            <a:xfrm>
              <a:off x="3265200" y="3321000"/>
              <a:ext cx="2541240" cy="777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Garamond"/>
                </a:rPr>
                <a:t>Приоратский парк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8/35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_s1034"/>
            <p:cNvSpPr/>
            <p:nvPr/>
          </p:nvSpPr>
          <p:spPr>
            <a:xfrm>
              <a:off x="6099120" y="3321000"/>
              <a:ext cx="2541240" cy="777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Garamond"/>
                </a:rPr>
                <a:t>Дворцовый парк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20%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5" name="WordArt 17"/>
          <p:cNvSpPr txBox="1"/>
          <p:nvPr/>
        </p:nvSpPr>
        <p:spPr>
          <a:xfrm>
            <a:off x="539640" y="4581360"/>
            <a:ext cx="82090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формулируйте три задачи по данному плакату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чи второго тип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67" name="Organization Chart 7"/>
          <p:cNvGrpSpPr/>
          <p:nvPr/>
        </p:nvGrpSpPr>
        <p:grpSpPr>
          <a:xfrm>
            <a:off x="431640" y="2314440"/>
            <a:ext cx="8243640" cy="2660760"/>
            <a:chOff x="431640" y="2314440"/>
            <a:chExt cx="8243640" cy="2660760"/>
          </a:xfrm>
        </p:grpSpPr>
        <p:cxnSp>
          <p:nvCxnSpPr>
            <p:cNvPr id="68" name="_s2052"/>
            <p:cNvCxnSpPr>
              <a:stCxn id="69" idx="0"/>
              <a:endCxn id="70" idx="2"/>
            </p:cNvCxnSpPr>
            <p:nvPr/>
          </p:nvCxnSpPr>
          <p:spPr>
            <a:xfrm flipV="1" rot="16200000">
              <a:off x="5864040" y="1460880"/>
              <a:ext cx="229320" cy="2849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" name="_s2053"/>
            <p:cNvCxnSpPr>
              <a:stCxn id="72" idx="0"/>
              <a:endCxn id="70" idx="2"/>
            </p:cNvCxnSpPr>
            <p:nvPr/>
          </p:nvCxnSpPr>
          <p:spPr>
            <a:xfrm flipV="1">
              <a:off x="4554720" y="2770920"/>
              <a:ext cx="2880" cy="22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3" name="_s2054"/>
            <p:cNvCxnSpPr>
              <a:stCxn id="74" idx="0"/>
              <a:endCxn id="70" idx="2"/>
            </p:cNvCxnSpPr>
            <p:nvPr/>
          </p:nvCxnSpPr>
          <p:spPr>
            <a:xfrm flipH="1" flipV="1" rot="5400000">
              <a:off x="3014640" y="1460160"/>
              <a:ext cx="229320" cy="2851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0" name="_s2055"/>
            <p:cNvSpPr/>
            <p:nvPr/>
          </p:nvSpPr>
          <p:spPr>
            <a:xfrm>
              <a:off x="2373120" y="2314440"/>
              <a:ext cx="4359960" cy="4572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       </a:t>
              </a:r>
              <a:r>
                <a:rPr b="1" lang="ru-RU" sz="2000" spc="-1" strike="noStrike">
                  <a:solidFill>
                    <a:srgbClr val="ffffff"/>
                  </a:solidFill>
                  <a:latin typeface="Garamond"/>
                </a:rPr>
                <a:t>Дворцово-парковый ансамбль</a:t>
              </a: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      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_s2056"/>
            <p:cNvSpPr/>
            <p:nvPr/>
          </p:nvSpPr>
          <p:spPr>
            <a:xfrm>
              <a:off x="431640" y="3000240"/>
              <a:ext cx="2546280" cy="10382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   </a:t>
              </a:r>
              <a:r>
                <a:rPr b="1" lang="en-US" sz="1900" spc="-1" strike="noStrike">
                  <a:solidFill>
                    <a:srgbClr val="ffffff"/>
                  </a:solidFill>
                  <a:latin typeface="Garamond"/>
                </a:rPr>
                <a:t>4/7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Garamond"/>
                </a:rPr>
                <a:t>          </a:t>
              </a:r>
              <a:r>
                <a:rPr b="1" lang="ru-RU" sz="1900" spc="-1" strike="noStrike">
                  <a:solidFill>
                    <a:srgbClr val="ffffff"/>
                  </a:solidFill>
                  <a:latin typeface="Garamond"/>
                </a:rPr>
                <a:t>Парк Зверинец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Garamond"/>
                </a:rPr>
                <a:t>400 </a:t>
              </a:r>
              <a:r>
                <a:rPr b="1" lang="ru-RU" sz="1900" spc="-1" strike="noStrike">
                  <a:solidFill>
                    <a:srgbClr val="ffffff"/>
                  </a:solidFill>
                  <a:latin typeface="Garamond"/>
                </a:rPr>
                <a:t>га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_s2057"/>
            <p:cNvSpPr/>
            <p:nvPr/>
          </p:nvSpPr>
          <p:spPr>
            <a:xfrm>
              <a:off x="3280320" y="3000240"/>
              <a:ext cx="2546280" cy="10382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Garamond"/>
                </a:rPr>
                <a:t>8/35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ru-RU" sz="1900" spc="-1" strike="noStrike">
                  <a:solidFill>
                    <a:srgbClr val="ffffff"/>
                  </a:solidFill>
                  <a:latin typeface="Garamond"/>
                </a:rPr>
                <a:t>Приоратский парк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Garamond"/>
                </a:rPr>
                <a:t>160 га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_s2058"/>
            <p:cNvSpPr/>
            <p:nvPr/>
          </p:nvSpPr>
          <p:spPr>
            <a:xfrm>
              <a:off x="6129000" y="3000240"/>
              <a:ext cx="2546280" cy="10382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en-US" sz="1900" spc="-1" strike="noStrike">
                  <a:solidFill>
                    <a:srgbClr val="ffffff"/>
                  </a:solidFill>
                  <a:latin typeface="Garamond"/>
                </a:rPr>
                <a:t>20%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ru-RU" sz="1900" spc="-1" strike="noStrike">
                  <a:solidFill>
                    <a:srgbClr val="ffffff"/>
                  </a:solidFill>
                  <a:latin typeface="Garamond"/>
                </a:rPr>
                <a:t>Дворцовый парк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Garamond"/>
                </a:rPr>
                <a:t>140 га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WordArt 15"/>
            <p:cNvSpPr txBox="1"/>
            <p:nvPr/>
          </p:nvSpPr>
          <p:spPr>
            <a:xfrm>
              <a:off x="467280" y="4508640"/>
              <a:ext cx="820800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Сформулируйте три задачи по данному плакату</a:t>
              </a:r>
              <a:endPara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76" name="WordArt 17"/>
          <p:cNvSpPr txBox="1"/>
          <p:nvPr/>
        </p:nvSpPr>
        <p:spPr>
          <a:xfrm>
            <a:off x="539640" y="4533840"/>
            <a:ext cx="82090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формулируйте три задачи по данному плакату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чи третьего тип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78" name="Organization Chart 7"/>
          <p:cNvGrpSpPr/>
          <p:nvPr/>
        </p:nvGrpSpPr>
        <p:grpSpPr>
          <a:xfrm>
            <a:off x="431640" y="2314440"/>
            <a:ext cx="8208360" cy="1784520"/>
            <a:chOff x="431640" y="2314440"/>
            <a:chExt cx="8208360" cy="1784520"/>
          </a:xfrm>
        </p:grpSpPr>
        <p:cxnSp>
          <p:nvCxnSpPr>
            <p:cNvPr id="79" name="_s3076"/>
            <p:cNvCxnSpPr>
              <a:stCxn id="80" idx="0"/>
              <a:endCxn id="81" idx="2"/>
            </p:cNvCxnSpPr>
            <p:nvPr/>
          </p:nvCxnSpPr>
          <p:spPr>
            <a:xfrm flipV="1" rot="16200000">
              <a:off x="5843520" y="1783800"/>
              <a:ext cx="229320" cy="2845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2" name="_s3077"/>
            <p:cNvCxnSpPr>
              <a:stCxn id="83" idx="0"/>
              <a:endCxn id="81" idx="2"/>
            </p:cNvCxnSpPr>
            <p:nvPr/>
          </p:nvCxnSpPr>
          <p:spPr>
            <a:xfrm flipV="1">
              <a:off x="4536000" y="3091680"/>
              <a:ext cx="2520" cy="22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4" name="_s3078"/>
            <p:cNvCxnSpPr>
              <a:stCxn id="85" idx="0"/>
              <a:endCxn id="81" idx="2"/>
            </p:cNvCxnSpPr>
            <p:nvPr/>
          </p:nvCxnSpPr>
          <p:spPr>
            <a:xfrm flipH="1" flipV="1" rot="5400000">
              <a:off x="2998800" y="1783440"/>
              <a:ext cx="229320" cy="2845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1" name="_s3079"/>
            <p:cNvSpPr/>
            <p:nvPr/>
          </p:nvSpPr>
          <p:spPr>
            <a:xfrm>
              <a:off x="1872360" y="2314440"/>
              <a:ext cx="5329800" cy="777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Дворцово-парковый ансамбль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700 г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_s3080"/>
            <p:cNvSpPr/>
            <p:nvPr/>
          </p:nvSpPr>
          <p:spPr>
            <a:xfrm>
              <a:off x="431640" y="3321000"/>
              <a:ext cx="2518920" cy="777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Парк Зверинец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400 г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_s3081"/>
            <p:cNvSpPr/>
            <p:nvPr/>
          </p:nvSpPr>
          <p:spPr>
            <a:xfrm>
              <a:off x="3276720" y="3321000"/>
              <a:ext cx="2518920" cy="777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Приоратский парк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160 г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_s3082"/>
            <p:cNvSpPr/>
            <p:nvPr/>
          </p:nvSpPr>
          <p:spPr>
            <a:xfrm>
              <a:off x="6121800" y="3321000"/>
              <a:ext cx="2518200" cy="777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Дворцовый парк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140 г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6" name="WordArt 15"/>
          <p:cNvSpPr txBox="1"/>
          <p:nvPr/>
        </p:nvSpPr>
        <p:spPr>
          <a:xfrm>
            <a:off x="539640" y="4653000"/>
            <a:ext cx="8209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формулируйте три задачи по данному плакату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0T14:18:29Z</dcterms:created>
  <dc:creator>Влад</dc:creator>
  <dc:description/>
  <dc:language>en-US</dc:language>
  <cp:lastModifiedBy>Owner</cp:lastModifiedBy>
  <dcterms:modified xsi:type="dcterms:W3CDTF">2022-10-17T05:01:55Z</dcterms:modified>
  <cp:revision>72</cp:revision>
  <dc:subject/>
  <dc:title>Решение задач на дроби и проценты с использованием материалов по краеведению</dc:title>
</cp:coreProperties>
</file>