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1A21-2972-4C9E-BEAF-CAFC9F12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7D9B-B7D3-40FA-A4BE-D07177F1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FF17-E642-4317-BC62-4A684E7C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3CB1-CA09-4695-809A-DB056C4B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CFDD-74F8-46D6-86C8-314CF30B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1F94-00D6-4C6C-B231-CB0FA6B0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003F-FB34-483F-A5E2-E94ED8CF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6274-EA58-4547-8DB5-C3D392E5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C5B2-FB9C-4183-86B5-947016C0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50DC-87B7-4A01-AE06-03B5FC3A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D45E-D5AE-4EF4-84AF-06951E99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57A6-8F97-44AE-8A14-457C566B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C421-B116-42E0-9738-1681BB83E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55;&#1044;.pp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57200"/>
            <a:ext cx="7772400" cy="25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Опорный конспект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в блочно-модульной технологии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на уроках истории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43320" y="5214600"/>
            <a:ext cx="314316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e84b4"/>
                </a:solidFill>
                <a:latin typeface="Calibri"/>
              </a:rPr>
              <a:t>Учитель ист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e84b4"/>
                </a:solidFill>
                <a:latin typeface="Calibri"/>
              </a:rPr>
              <a:t>Койвистойнен С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подавание истории в ш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3840" y="1500120"/>
            <a:ext cx="418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Проблем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)Раздробленность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/материала и событ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)Изученное забывается учениками до того, как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знать, к каким результата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водит п-с связ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14560" y="1571760"/>
            <a:ext cx="40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Реш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Изучать и/материал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блокам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Составлять О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Группа 8"/>
          <p:cNvGrpSpPr/>
          <p:nvPr/>
        </p:nvGrpSpPr>
        <p:grpSpPr>
          <a:xfrm>
            <a:off x="4500360" y="1857240"/>
            <a:ext cx="571680" cy="2288160"/>
            <a:chOff x="4500360" y="1857240"/>
            <a:chExt cx="571680" cy="2288160"/>
          </a:xfrm>
        </p:grpSpPr>
        <p:cxnSp>
          <p:nvCxnSpPr>
            <p:cNvPr id="47" name="Прямая со стрелкой 5"/>
            <p:cNvCxnSpPr/>
            <p:nvPr/>
          </p:nvCxnSpPr>
          <p:spPr>
            <a:xfrm>
              <a:off x="4500360" y="1857240"/>
              <a:ext cx="5720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8" name="Прямая со стрелкой 7"/>
            <p:cNvCxnSpPr/>
            <p:nvPr/>
          </p:nvCxnSpPr>
          <p:spPr>
            <a:xfrm>
              <a:off x="4500360" y="2742120"/>
              <a:ext cx="4006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9" name="Прямая со стрелкой 9"/>
            <p:cNvCxnSpPr/>
            <p:nvPr/>
          </p:nvCxnSpPr>
          <p:spPr>
            <a:xfrm>
              <a:off x="4557240" y="4143600"/>
              <a:ext cx="4006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Блочно-модульная техноло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7120" y="1599840"/>
            <a:ext cx="87868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лок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законченная, самостоятельная по содержанию часть  у/м (б/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еск. парагр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ду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узел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учебное       +      техн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держание        владения 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Б.выделяется 4 М.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М/1-2ур.-изложение У.основных «?» тем, осн. понят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М/3-5ур.-сам.раб.у-я с источником инф., обсуж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М/1-2ур.-повторение и обобщение 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М/1-2ур.-контроль знаний по всему 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5"/>
          <p:cNvGrpSpPr/>
          <p:nvPr/>
        </p:nvGrpSpPr>
        <p:grpSpPr>
          <a:xfrm>
            <a:off x="3071880" y="2714760"/>
            <a:ext cx="5286240" cy="1199880"/>
            <a:chOff x="3071880" y="2714760"/>
            <a:chExt cx="5286240" cy="1199880"/>
          </a:xfrm>
        </p:grpSpPr>
        <p:sp>
          <p:nvSpPr>
            <p:cNvPr id="53" name="Двойные круглые скобки 6"/>
            <p:cNvSpPr/>
            <p:nvPr/>
          </p:nvSpPr>
          <p:spPr>
            <a:xfrm>
              <a:off x="3071880" y="2714760"/>
              <a:ext cx="2214360" cy="114300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Двойные круглые скобки 7"/>
            <p:cNvSpPr/>
            <p:nvPr/>
          </p:nvSpPr>
          <p:spPr>
            <a:xfrm>
              <a:off x="5857920" y="2714760"/>
              <a:ext cx="2500200" cy="11998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еятельность У. и у. в БМ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85840" y="1428480"/>
            <a:ext cx="42098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нформационно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нтролирующая 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нсультативно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ординирующая 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71680" y="1428840"/>
            <a:ext cx="361476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че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ктивный субъе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бственной 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ая соединительная линия 5"/>
          <p:cNvSpPr/>
          <p:nvPr/>
        </p:nvSpPr>
        <p:spPr>
          <a:xfrm flipH="1">
            <a:off x="6571800" y="2000160"/>
            <a:ext cx="1800" cy="7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Прямая со стрелкой 7"/>
          <p:cNvCxnSpPr/>
          <p:nvPr/>
        </p:nvCxnSpPr>
        <p:spPr>
          <a:xfrm flipH="1">
            <a:off x="1926360" y="3214800"/>
            <a:ext cx="252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TextBox 12"/>
          <p:cNvSpPr/>
          <p:nvPr/>
        </p:nvSpPr>
        <p:spPr>
          <a:xfrm>
            <a:off x="1714680" y="5643720"/>
            <a:ext cx="657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заимодействие с помощью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Левая фигурная скобка 10"/>
          <p:cNvSpPr/>
          <p:nvPr/>
        </p:nvSpPr>
        <p:spPr>
          <a:xfrm rot="16200000">
            <a:off x="4386960" y="3614040"/>
            <a:ext cx="727200" cy="3357360"/>
          </a:xfrm>
          <a:custGeom>
            <a:avLst/>
            <a:gdLst>
              <a:gd name="textAreaLeft" fmla="*/ 464760 w 727200"/>
              <a:gd name="textAreaRight" fmla="*/ 727200 w 727200"/>
              <a:gd name="textAreaTop" fmla="*/ 22680 h 3357360"/>
              <a:gd name="textAreaBottom" fmla="*/ 333468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7"/>
                  <a:pt x="10800" y="473"/>
                </a:cubicBezTo>
                <a:lnTo>
                  <a:pt x="10800" y="10327"/>
                </a:lnTo>
                <a:cubicBezTo>
                  <a:pt x="10800" y="10564"/>
                  <a:pt x="5400" y="10800"/>
                  <a:pt x="0" y="10800"/>
                </a:cubicBezTo>
                <a:cubicBezTo>
                  <a:pt x="5400" y="10800"/>
                  <a:pt x="10800" y="11037"/>
                  <a:pt x="10800" y="11273"/>
                </a:cubicBezTo>
                <a:lnTo>
                  <a:pt x="10800" y="21127"/>
                </a:lnTo>
                <a:cubicBezTo>
                  <a:pt x="10800" y="213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етодика 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859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 система знаков-опор, в котор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шифрована блок-т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З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 слова/д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трелки перехода (     ) и следствия (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знаки противостояния (     ) или союза (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знаки побед (  !  ) и поражений (  Х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знаки-оценки («+») и («-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знак объединения (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З сгруппированы 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i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блоки, кот. имеют 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Группа 9"/>
          <p:cNvGrpSpPr/>
          <p:nvPr/>
        </p:nvGrpSpPr>
        <p:grpSpPr>
          <a:xfrm>
            <a:off x="4572000" y="3429000"/>
            <a:ext cx="3785760" cy="573480"/>
            <a:chOff x="4572000" y="3429000"/>
            <a:chExt cx="3785760" cy="573480"/>
          </a:xfrm>
        </p:grpSpPr>
        <p:cxnSp>
          <p:nvCxnSpPr>
            <p:cNvPr id="65" name="Прямая со стрелкой 6"/>
            <p:cNvCxnSpPr/>
            <p:nvPr/>
          </p:nvCxnSpPr>
          <p:spPr>
            <a:xfrm>
              <a:off x="4572000" y="3429000"/>
              <a:ext cx="4291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6" name="Прямая со стрелкой 15"/>
            <p:cNvCxnSpPr/>
            <p:nvPr/>
          </p:nvCxnSpPr>
          <p:spPr>
            <a:xfrm>
              <a:off x="5357520" y="4000680"/>
              <a:ext cx="4291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67" name="Прямая соединительная линия 17"/>
            <p:cNvSpPr/>
            <p:nvPr/>
          </p:nvSpPr>
          <p:spPr>
            <a:xfrm flipH="1" flipV="1">
              <a:off x="8072280" y="4000680"/>
              <a:ext cx="285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" name="Прямая со стрелкой 23"/>
            <p:cNvCxnSpPr/>
            <p:nvPr/>
          </p:nvCxnSpPr>
          <p:spPr>
            <a:xfrm>
              <a:off x="7429680" y="3429000"/>
              <a:ext cx="4291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9" name="Прямая со стрелкой 43"/>
            <p:cNvCxnSpPr/>
            <p:nvPr/>
          </p:nvCxnSpPr>
          <p:spPr>
            <a:xfrm>
              <a:off x="7500960" y="3571920"/>
              <a:ext cx="3578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инципы 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292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лов /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зна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информации пр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зна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x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зрит. образов: схем/чертежей/р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 должен стать настоящей опорой для ученика : «глаз оттолкнулся  -  язык воспроизве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оставление ОК учени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642680"/>
            <a:ext cx="871524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1 уровен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воссоздает ОК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усваиваю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 объяснении темы          что стоит за каждым      (ОК висит на доске)                   элементом ОК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2 уровен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авит ключевые «?»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у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мостоятель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ставляют 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мпетентности  У. и 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Прямая со стрелкой 4"/>
          <p:cNvCxnSpPr/>
          <p:nvPr/>
        </p:nvCxnSpPr>
        <p:spPr>
          <a:xfrm>
            <a:off x="4000320" y="2571840"/>
            <a:ext cx="1215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Прямая со стрелкой 6"/>
          <p:cNvCxnSpPr/>
          <p:nvPr/>
        </p:nvCxnSpPr>
        <p:spPr>
          <a:xfrm>
            <a:off x="4357800" y="4785840"/>
            <a:ext cx="1000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Прямая со стрелкой 8"/>
          <p:cNvCxnSpPr/>
          <p:nvPr/>
        </p:nvCxnSpPr>
        <p:spPr>
          <a:xfrm flipV="1">
            <a:off x="2428920" y="5928840"/>
            <a:ext cx="21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Левая фигурная скобка 10"/>
          <p:cNvSpPr/>
          <p:nvPr/>
        </p:nvSpPr>
        <p:spPr>
          <a:xfrm rot="16200000">
            <a:off x="4136760" y="4100400"/>
            <a:ext cx="727200" cy="2857320"/>
          </a:xfrm>
          <a:custGeom>
            <a:avLst/>
            <a:gdLst>
              <a:gd name="textAreaLeft" fmla="*/ 464760 w 727200"/>
              <a:gd name="textAreaRight" fmla="*/ 727200 w 727200"/>
              <a:gd name="textAreaTop" fmla="*/ 22680 h 2857320"/>
              <a:gd name="textAreaBottom" fmla="*/ 2834640 h 285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8"/>
                  <a:pt x="10800" y="555"/>
                </a:cubicBezTo>
                <a:lnTo>
                  <a:pt x="10800" y="10245"/>
                </a:lnTo>
                <a:cubicBezTo>
                  <a:pt x="10800" y="10523"/>
                  <a:pt x="5400" y="10800"/>
                  <a:pt x="0" y="10800"/>
                </a:cubicBezTo>
                <a:cubicBezTo>
                  <a:pt x="5400" y="10800"/>
                  <a:pt x="10800" y="11078"/>
                  <a:pt x="10800" y="11355"/>
                </a:cubicBezTo>
                <a:lnTo>
                  <a:pt x="10800" y="21045"/>
                </a:lnTo>
                <a:cubicBezTo>
                  <a:pt x="10800" y="2132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.:  Др.гос.в З.Аз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 р-не Двуречь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 в/п Сред.мор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, Урук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ыс.до н.э.)             Сирия ,Финик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вилон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ыс.до н.э.)               Палест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ссирия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II-VI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в.до н.э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вый Вавилон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I-VI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в.до н.э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сидская держава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-IV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.в.до н.э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Левая фигурная скобка 4"/>
          <p:cNvSpPr/>
          <p:nvPr/>
        </p:nvSpPr>
        <p:spPr>
          <a:xfrm rot="16200000">
            <a:off x="4244040" y="2328120"/>
            <a:ext cx="798480" cy="2857320"/>
          </a:xfrm>
          <a:custGeom>
            <a:avLst/>
            <a:gdLst>
              <a:gd name="textAreaLeft" fmla="*/ 510120 w 798480"/>
              <a:gd name="textAreaRight" fmla="*/ 798840 w 798480"/>
              <a:gd name="textAreaTop" fmla="*/ 20520 h 2857320"/>
              <a:gd name="textAreaBottom" fmla="*/ 2836800 h 285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2"/>
                  <a:pt x="10800" y="503"/>
                </a:cubicBezTo>
                <a:lnTo>
                  <a:pt x="10800" y="10297"/>
                </a:lnTo>
                <a:cubicBezTo>
                  <a:pt x="10800" y="10549"/>
                  <a:pt x="5400" y="10800"/>
                  <a:pt x="0" y="10800"/>
                </a:cubicBezTo>
                <a:cubicBezTo>
                  <a:pt x="5400" y="10800"/>
                  <a:pt x="10800" y="11052"/>
                  <a:pt x="10800" y="11303"/>
                </a:cubicBezTo>
                <a:lnTo>
                  <a:pt x="10800" y="21097"/>
                </a:lnTo>
                <a:cubicBezTo>
                  <a:pt x="10800" y="2134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правляющая кнопка: далее 5">
            <a:hlinkClick r:id="rId2"/>
          </p:cNvPr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19003" y="10800"/>
                </a:lnTo>
                <a:lnTo>
                  <a:pt x="4990" y="17806"/>
                </a:lnTo>
                <a:close/>
              </a:path>
            </a:pathLst>
          </a:custGeom>
          <a:solidFill>
            <a:srgbClr val="c8d6f0"/>
          </a:solidFill>
          <a:ln w="2556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0:48:30Z</dcterms:created>
  <dc:creator>Пользователь Windows</dc:creator>
  <dc:description/>
  <dc:language>en-US</dc:language>
  <cp:lastModifiedBy>ученик</cp:lastModifiedBy>
  <dcterms:modified xsi:type="dcterms:W3CDTF">2011-01-17T12:11:25Z</dcterms:modified>
  <cp:revision>48</cp:revision>
  <dc:subject/>
  <dc:title>Опорный конспект  в блочно-модульной технологии на уроках истории</dc:title>
</cp:coreProperties>
</file>