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58F-8E6A-47C4-9FDA-B80A2EE7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0A7-88B2-4B04-9DA9-3342A2A0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D19-8186-4EBA-AE23-3FD7536A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14E-32D4-40D2-B9CF-302A77CC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028-AB01-4FCF-8786-4C31A551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1DA-A9B7-48F8-B880-7315EB98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D81-599E-4DC8-88AF-CE1EBD3C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B38-C9E6-4CED-A9D0-09C871D9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1FC-BB2E-4416-A8A6-24ECB843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59B-C1F1-405D-9267-2897ABA3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3C1-1AF8-415F-9C8D-C2CCF9CA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0D2-29E7-425F-B1AE-70E5A11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AAED-085D-459B-B4FC-E9B76A6EF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5;&#1044;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порный конспе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блочно-модульной технолог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 уроках истор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3320" y="5214600"/>
            <a:ext cx="31431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alibri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alibri"/>
              </a:rPr>
              <a:t>Койвистойнен С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подавание истории в ш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150012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робл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)Раздробленность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/материала и собы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Изученное забывается учениками до того, ка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знать, к каким результата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одит п-с связ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14560" y="1571760"/>
            <a:ext cx="40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зучать и/материа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блок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Составлять О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8"/>
          <p:cNvGrpSpPr/>
          <p:nvPr/>
        </p:nvGrpSpPr>
        <p:grpSpPr>
          <a:xfrm>
            <a:off x="4500360" y="1857240"/>
            <a:ext cx="571680" cy="2288160"/>
            <a:chOff x="4500360" y="1857240"/>
            <a:chExt cx="571680" cy="2288160"/>
          </a:xfrm>
        </p:grpSpPr>
        <p:cxnSp>
          <p:nvCxnSpPr>
            <p:cNvPr id="47" name="Прямая со стрелкой 5"/>
            <p:cNvCxnSpPr/>
            <p:nvPr/>
          </p:nvCxnSpPr>
          <p:spPr>
            <a:xfrm>
              <a:off x="4500360" y="1857240"/>
              <a:ext cx="572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8" name="Прямая со стрелкой 7"/>
            <p:cNvCxnSpPr/>
            <p:nvPr/>
          </p:nvCxnSpPr>
          <p:spPr>
            <a:xfrm>
              <a:off x="4500360" y="2742120"/>
              <a:ext cx="400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9" name="Прямая со стрелкой 9"/>
            <p:cNvCxnSpPr/>
            <p:nvPr/>
          </p:nvCxnSpPr>
          <p:spPr>
            <a:xfrm>
              <a:off x="4557240" y="4143600"/>
              <a:ext cx="400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лочно-модульная техн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о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конченная, самостоятельная по содержанию часть  у/м (б/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ск. параг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у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узел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учебное       +     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       владения 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Б.выделяется 4 М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М/1-2ур.-изложение У.основных «?» тем, осн. пон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М/3-5ур.-сам.раб.у-я с источником инф., обсу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М/1-2ур.-повторение и обобщение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М/1-2ур.-контроль знаний по всему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5"/>
          <p:cNvGrpSpPr/>
          <p:nvPr/>
        </p:nvGrpSpPr>
        <p:grpSpPr>
          <a:xfrm>
            <a:off x="3071880" y="2714760"/>
            <a:ext cx="5286240" cy="1199880"/>
            <a:chOff x="3071880" y="2714760"/>
            <a:chExt cx="5286240" cy="1199880"/>
          </a:xfrm>
        </p:grpSpPr>
        <p:sp>
          <p:nvSpPr>
            <p:cNvPr id="53" name="Двойные круглые скобки 6"/>
            <p:cNvSpPr/>
            <p:nvPr/>
          </p:nvSpPr>
          <p:spPr>
            <a:xfrm>
              <a:off x="3071880" y="2714760"/>
              <a:ext cx="2214360" cy="11430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Двойные круглые скобки 7"/>
            <p:cNvSpPr/>
            <p:nvPr/>
          </p:nvSpPr>
          <p:spPr>
            <a:xfrm>
              <a:off x="5857920" y="2714760"/>
              <a:ext cx="2500200" cy="11998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ятельность У. и у. в БМ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1428480"/>
            <a:ext cx="42098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ормацион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тролирующая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сультатив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ординирующая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1680" y="1428840"/>
            <a:ext cx="361476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ый субъ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ственной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5"/>
          <p:cNvSpPr/>
          <p:nvPr/>
        </p:nvSpPr>
        <p:spPr>
          <a:xfrm flipH="1">
            <a:off x="6571800" y="2000160"/>
            <a:ext cx="180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7"/>
          <p:cNvCxnSpPr/>
          <p:nvPr/>
        </p:nvCxnSpPr>
        <p:spPr>
          <a:xfrm flipH="1">
            <a:off x="1926360" y="3214800"/>
            <a:ext cx="252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TextBox 12"/>
          <p:cNvSpPr/>
          <p:nvPr/>
        </p:nvSpPr>
        <p:spPr>
          <a:xfrm>
            <a:off x="1714680" y="564372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заимодействие с помощью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Левая фигурная скобка 10"/>
          <p:cNvSpPr/>
          <p:nvPr/>
        </p:nvSpPr>
        <p:spPr>
          <a:xfrm rot="16200000">
            <a:off x="4386960" y="3614040"/>
            <a:ext cx="727200" cy="3357360"/>
          </a:xfrm>
          <a:custGeom>
            <a:avLst/>
            <a:gdLst>
              <a:gd name="textAreaLeft" fmla="*/ 464760 w 727200"/>
              <a:gd name="textAreaRight" fmla="*/ 727200 w 727200"/>
              <a:gd name="textAreaTop" fmla="*/ 22680 h 3357360"/>
              <a:gd name="textAreaBottom" fmla="*/ 333468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327"/>
                </a:lnTo>
                <a:cubicBezTo>
                  <a:pt x="10800" y="10564"/>
                  <a:pt x="5400" y="10800"/>
                  <a:pt x="0" y="10800"/>
                </a:cubicBezTo>
                <a:cubicBezTo>
                  <a:pt x="5400" y="10800"/>
                  <a:pt x="10800" y="11037"/>
                  <a:pt x="10800" y="11273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одика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система знаков-опор, в котор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шифрована блок-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слова/д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трелки перехода (     ) и следствия 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 противостояния (     ) или союза 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 побед (  !  ) и поражений (  Х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-оценки («+») и («-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знак объединения (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З сгруппированы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локи, кот. имеют 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Группа 9"/>
          <p:cNvGrpSpPr/>
          <p:nvPr/>
        </p:nvGrpSpPr>
        <p:grpSpPr>
          <a:xfrm>
            <a:off x="4572000" y="3429000"/>
            <a:ext cx="3785760" cy="573480"/>
            <a:chOff x="4572000" y="3429000"/>
            <a:chExt cx="3785760" cy="573480"/>
          </a:xfrm>
        </p:grpSpPr>
        <p:cxnSp>
          <p:nvCxnSpPr>
            <p:cNvPr id="65" name="Прямая со стрелкой 6"/>
            <p:cNvCxnSpPr/>
            <p:nvPr/>
          </p:nvCxnSpPr>
          <p:spPr>
            <a:xfrm>
              <a:off x="4572000" y="342900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" name="Прямая со стрелкой 15"/>
            <p:cNvCxnSpPr/>
            <p:nvPr/>
          </p:nvCxnSpPr>
          <p:spPr>
            <a:xfrm>
              <a:off x="5357520" y="400068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7" name="Прямая соединительная линия 17"/>
            <p:cNvSpPr/>
            <p:nvPr/>
          </p:nvSpPr>
          <p:spPr>
            <a:xfrm flipH="1" flipV="1">
              <a:off x="8072280" y="4000680"/>
              <a:ext cx="28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23"/>
            <p:cNvCxnSpPr/>
            <p:nvPr/>
          </p:nvCxnSpPr>
          <p:spPr>
            <a:xfrm>
              <a:off x="7429680" y="342900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Прямая со стрелкой 43"/>
            <p:cNvCxnSpPr/>
            <p:nvPr/>
          </p:nvCxnSpPr>
          <p:spPr>
            <a:xfrm>
              <a:off x="7500960" y="3571920"/>
              <a:ext cx="3578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инципы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ов /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информации п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рит. образов: схем/чертежей/р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 должен стать настоящей опорой для ученика : «глаз оттолкнулся  -  язык воспроизв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ставление ОК учени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642680"/>
            <a:ext cx="8715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 уровен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оссоздает ОК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сваиваю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 объяснении темы          что стоит за каждым      (ОК висит на доске)                   элементом ОК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 уровен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вит ключевые «?»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тавляют 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етентности  У. и 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Прямая со стрелкой 4"/>
          <p:cNvCxnSpPr/>
          <p:nvPr/>
        </p:nvCxnSpPr>
        <p:spPr>
          <a:xfrm>
            <a:off x="4000320" y="257184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6"/>
          <p:cNvCxnSpPr/>
          <p:nvPr/>
        </p:nvCxnSpPr>
        <p:spPr>
          <a:xfrm>
            <a:off x="4357800" y="4785840"/>
            <a:ext cx="1000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8"/>
          <p:cNvCxnSpPr/>
          <p:nvPr/>
        </p:nvCxnSpPr>
        <p:spPr>
          <a:xfrm flipV="1">
            <a:off x="2428920" y="5928840"/>
            <a:ext cx="21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Левая фигурная скобка 10"/>
          <p:cNvSpPr/>
          <p:nvPr/>
        </p:nvSpPr>
        <p:spPr>
          <a:xfrm rot="16200000">
            <a:off x="4136760" y="4100400"/>
            <a:ext cx="727200" cy="2857320"/>
          </a:xfrm>
          <a:custGeom>
            <a:avLst/>
            <a:gdLst>
              <a:gd name="textAreaLeft" fmla="*/ 464760 w 727200"/>
              <a:gd name="textAreaRight" fmla="*/ 727200 w 727200"/>
              <a:gd name="textAreaTop" fmla="*/ 22680 h 2857320"/>
              <a:gd name="textAreaBottom" fmla="*/ 283464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.:  Др.гос.в З.А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р-не Двуреч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в/п Сред.м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, Урук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до н.э.)             Сирия ,Финик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вило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до н.э.)               Пале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ссирия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-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Вавилон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-V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идская держав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-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Левая фигурная скобка 4"/>
          <p:cNvSpPr/>
          <p:nvPr/>
        </p:nvSpPr>
        <p:spPr>
          <a:xfrm rot="16200000">
            <a:off x="4244040" y="2328120"/>
            <a:ext cx="798480" cy="2857320"/>
          </a:xfrm>
          <a:custGeom>
            <a:avLst/>
            <a:gdLst>
              <a:gd name="textAreaLeft" fmla="*/ 510120 w 798480"/>
              <a:gd name="textAreaRight" fmla="*/ 798840 w 798480"/>
              <a:gd name="textAreaTop" fmla="*/ 20520 h 2857320"/>
              <a:gd name="textAreaBottom" fmla="*/ 283680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2"/>
                  <a:pt x="10800" y="503"/>
                </a:cubicBezTo>
                <a:lnTo>
                  <a:pt x="10800" y="10297"/>
                </a:lnTo>
                <a:cubicBezTo>
                  <a:pt x="10800" y="10549"/>
                  <a:pt x="5400" y="10800"/>
                  <a:pt x="0" y="10800"/>
                </a:cubicBezTo>
                <a:cubicBezTo>
                  <a:pt x="5400" y="10800"/>
                  <a:pt x="10800" y="11052"/>
                  <a:pt x="10800" y="11303"/>
                </a:cubicBezTo>
                <a:lnTo>
                  <a:pt x="10800" y="21097"/>
                </a:lnTo>
                <a:cubicBezTo>
                  <a:pt x="10800" y="213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5">
            <a:hlinkClick r:id="rId2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c8d6f0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48:30Z</dcterms:created>
  <dc:creator>Пользователь Windows</dc:creator>
  <dc:description/>
  <dc:language>en-US</dc:language>
  <cp:lastModifiedBy>ученик</cp:lastModifiedBy>
  <dcterms:modified xsi:type="dcterms:W3CDTF">2011-01-17T12:11:25Z</dcterms:modified>
  <cp:revision>48</cp:revision>
  <dc:subject/>
  <dc:title>Опорный конспект  в блочно-модульной технологии на уроках истории</dc:title>
</cp:coreProperties>
</file>