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5BE4-16B4-4DEE-B50D-709E1ED191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C672-07DA-4755-BEB1-E078DA1F6BA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7EAE-32BB-496B-8D6E-93234453FC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21C3-4B82-41C4-8D41-E536B6797C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43AB-788C-42AA-87B7-F128F49E55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CD96-7CDB-4DA8-ACE5-30B47F37B7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341-C26E-4354-9C61-49389B27856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FCAE-0AF4-40BB-B86F-8E5A3D1AD8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BBBC-DF1A-4C40-8E69-08030A564D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5E3D-B8A2-4506-A82D-18DB029E1F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5080-82C1-41D5-81D9-6FC1E028DE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1CE-F4BF-4751-B75C-98995B60E1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18B-2AD7-436B-8C4D-A13A3D87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673-B0F3-4E51-AF91-5357494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364-962F-44CA-842C-E042CDE5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447-445D-4471-B928-81D16C87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2B2B-6AC5-4D53-8ADA-0659C4DB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F8F0-4C27-40F1-8D41-AF7B146D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0FBB-1978-4202-AE39-972FB2A4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A21A-E24D-4E89-B96B-A601682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5E39-B287-4B60-8B13-58A55032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9EFA-16EC-4AC7-A6C2-78F09793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742-D5DA-4E43-A677-DA8EBB3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862-581A-4B49-AB06-4FF5CE20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0C44-1F00-4D9C-A1A1-4D0A9B0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C174-DF50-4B9E-A652-532E6E6C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659E-A9C3-4CDC-95D0-D55E1F01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C720-F3F5-46F4-AED9-F35BBE40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0904-E331-4A59-AEAF-AACBDEC4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AE68-3D73-4AFF-87C3-97380DF2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3C2B-5F79-4086-9BC2-E5073A64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7D24-1BFB-4B3D-ACE8-7531C152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CAD36-F76B-424F-900E-D36A14A0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0DF7-9F65-4A10-89D2-BDC73374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772-8B47-46DF-9B5B-0F56E17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94A5-97E6-4571-88D4-0E9EDFB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5581-CDE0-4543-89CC-0F5510E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036A-76F8-45BC-87BF-4E2BE85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AB1C-B841-419C-A8E3-974F817B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9BD7-50B0-4C3A-8FC6-6AF8CAF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3998-FE85-4CB1-B59D-00120549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3565-970B-4305-BEBB-A86E09FF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0D8EC-DA55-4BE5-9FCA-CBECAE5F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C75D5-FEEE-411C-A59B-BF03800A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520D9-0964-4E65-B876-95D0305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F7D-7637-44CC-BDB5-35916430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29CD0-A1DE-4691-BCC3-8383FA5B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3DF9D-6CB9-4BD0-9151-E8EA1978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B4E41-6121-415A-90B4-D088E61E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ECE96-86D9-4A9F-A407-27E5CFA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26A59-775C-41C0-807F-CD9B33D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48A6E-17EC-4A05-BBF3-FF9BAE9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BC4AE-60F2-4859-B18F-CFAD13FE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5C94E-FC56-49AE-BC4D-A842DC4C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D8A31-B3B5-4C65-BB19-5E10FB2C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FC3-2538-4183-8CF2-84AF7884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9E6-5BDE-4EDB-8749-32C775A1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531-DBEB-4EF7-B4C8-BA6DB377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557-5B5C-482F-8CAE-63E7F9F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620-290A-4272-93E6-C79C8C7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6229-0ED9-405D-B5D0-074D340AAE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246-B452-42EA-B6C3-A1770125BB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FD04-CE53-410F-8C60-3FE7139B65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3246-8D3C-429C-A56E-022C3EAF6F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ценка планируемых результатов образования в соответствии с требованиями ФГОС</a:t>
            </a:r>
            <a:br>
              <a:rPr sz="3600"/>
            </a:br>
            <a:br>
              <a:rPr sz="32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фессор кафедры управления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октор педагогических наук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фессо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олматов Александр Васильевич</a:t>
            </a:r>
            <a:br>
              <a:rPr sz="3600"/>
            </a:br>
            <a:br>
              <a:rPr sz="36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презентации использованы  материалы авторов –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Ж.А. Исаевой, Ковалевой Г. Н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0360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итоговой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ижение предметных и метапредметных результатов освоения основной образовательной программы основного общего образования, необходимых для продолжения образования, является предметом итоговой оценки освоения обучающимися основной образовательной программы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и способность к решению учебно-практических и учебно-познавательных задач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авляющие итоговой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480" y="1599840"/>
            <a:ext cx="8066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оговая оценка результатов освоения основной образовательной программы основного общего образования включает две составляющ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промежуточной аттестации обучающихся, отражающие динамику их индивидуальных образовательных достижений в соответствии с планируемыми результатами освоения основной образовательной программы основ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государственной (итоговой) аттестации выпускников, характеризующие уровень достижения планируемых результатов освоения  основной образовательной программы основ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личностных характерис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результатам индивидуальных достижений обучающихся, не подлежащим итоговой оценке, относятся ценностные ориентации обучающегося и индивидуальные личностные характеристики. Обобщённая оценка этих и других личностных результатов освоения обучающимися основных образовательных программ должна осуществляться в ходе различных мониторинговых исслед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EEEF-0FCF-423F-825E-CEACBC711027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5076720" y="1376280"/>
            <a:ext cx="3670560" cy="684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Внешняя оценка</a:t>
            </a:r>
            <a:r>
              <a:rPr b="0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государственные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4281480" y="2446200"/>
            <a:ext cx="2158920" cy="6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ccff99">
                  <a:alpha val="98039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аккредитация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аттестация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6800760" y="2446200"/>
            <a:ext cx="2158920" cy="6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мониторинг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 Narrow"/>
                <a:ea typeface="Arial"/>
              </a:rPr>
              <a:t>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435640" y="2276640"/>
            <a:ext cx="2663640" cy="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6767640" y="2023920"/>
            <a:ext cx="0" cy="252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5435640" y="2276640"/>
            <a:ext cx="0" cy="180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0"/>
          <p:cNvSpPr/>
          <p:nvPr/>
        </p:nvSpPr>
        <p:spPr>
          <a:xfrm>
            <a:off x="8101080" y="2276640"/>
            <a:ext cx="0" cy="180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276720" y="4930920"/>
            <a:ext cx="2447640" cy="173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итогов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защит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1224000" y="3321000"/>
            <a:ext cx="1871640" cy="262908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2629080"/>
              <a:gd name="textAreaBottom" fmla="*/ 2538000 h 2629080"/>
            </a:gdLst>
            <a:ahLst/>
            <a:rect l="textAreaLeft" t="textAreaTop" r="textAreaRight" b="textAreaBottom"/>
            <a:pathLst>
              <a:path w="21600" h="30340">
                <a:moveTo>
                  <a:pt x="3600" y="0"/>
                </a:moveTo>
                <a:arcTo wR="3600" hR="3600" stAng="16200000" swAng="-5400000"/>
                <a:lnTo>
                  <a:pt x="0" y="26740"/>
                </a:lnTo>
                <a:arcTo wR="3600" hR="3600" stAng="10800000" swAng="-5400000"/>
                <a:lnTo>
                  <a:pt x="18000" y="30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ff99">
                  <a:alpha val="27058"/>
                </a:srgbClr>
              </a:gs>
              <a:gs pos="100000">
                <a:srgbClr val="ffffff">
                  <a:alpha val="67058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Tahoma"/>
                <a:ea typeface="Arial"/>
              </a:rPr>
              <a:t>итог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99"/>
                </a:solidFill>
                <a:latin typeface="Tahoma"/>
                <a:ea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4103640" y="4257720"/>
            <a:ext cx="86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3311640" y="3284640"/>
            <a:ext cx="2447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копленн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9"/>
          <p:cNvSpPr/>
          <p:nvPr/>
        </p:nvSpPr>
        <p:spPr>
          <a:xfrm rot="16200000">
            <a:off x="6912000" y="4113360"/>
            <a:ext cx="1836720" cy="468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2"/>
          <p:cNvSpPr/>
          <p:nvPr/>
        </p:nvSpPr>
        <p:spPr>
          <a:xfrm rot="10800000">
            <a:off x="6479640" y="2528640"/>
            <a:ext cx="397080" cy="468360"/>
          </a:xfrm>
          <a:custGeom>
            <a:avLst/>
            <a:gdLst>
              <a:gd name="textAreaLeft" fmla="*/ 61920 w 397080"/>
              <a:gd name="textAreaRight" fmla="*/ 347760 w 397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3"/>
          <p:cNvSpPr/>
          <p:nvPr/>
        </p:nvSpPr>
        <p:spPr>
          <a:xfrm rot="16200000">
            <a:off x="4662360" y="2979360"/>
            <a:ext cx="360360" cy="468360"/>
          </a:xfrm>
          <a:custGeom>
            <a:avLst/>
            <a:gdLst>
              <a:gd name="textAreaLeft" fmla="*/ 56160 w 360360"/>
              <a:gd name="textAreaRight" fmla="*/ 315360 w 3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4"/>
          <p:cNvSpPr/>
          <p:nvPr/>
        </p:nvSpPr>
        <p:spPr>
          <a:xfrm>
            <a:off x="2627280" y="2421000"/>
            <a:ext cx="1368360" cy="468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5"/>
          <p:cNvSpPr/>
          <p:nvPr/>
        </p:nvSpPr>
        <p:spPr>
          <a:xfrm>
            <a:off x="395280" y="1952640"/>
            <a:ext cx="2087640" cy="11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>
                  <a:alpha val="27058"/>
                </a:srgbClr>
              </a:gs>
              <a:gs pos="100000">
                <a:srgbClr val="ffffff">
                  <a:alpha val="67058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Необход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допол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Arial"/>
                <a:ea typeface="Arial"/>
              </a:rPr>
              <a:t>данные/иссл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0" y="115920"/>
            <a:ext cx="9144000" cy="108108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Итоговая оценка как основа оцен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качества образования: основная шко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7020000" y="5624640"/>
            <a:ext cx="187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5904000" y="5589720"/>
            <a:ext cx="86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9227-6E69-44D7-95C4-B204158FBEDD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0" y="0"/>
            <a:ext cx="8893080" cy="1055520"/>
          </a:xfrm>
          <a:prstGeom prst="roundRect">
            <a:avLst>
              <a:gd name="adj" fmla="val 46389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е результа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носимые на итоговую оце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5543640" y="213372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832360" y="32497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оп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учеб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"/>
          <p:cNvSpPr txBox="1"/>
          <p:nvPr/>
        </p:nvSpPr>
        <p:spPr>
          <a:xfrm rot="5400000">
            <a:off x="6238080" y="3332880"/>
            <a:ext cx="5075280" cy="52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               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12" name="WordArt 6"/>
          <p:cNvSpPr txBox="1"/>
          <p:nvPr/>
        </p:nvSpPr>
        <p:spPr>
          <a:xfrm>
            <a:off x="5543640" y="6200640"/>
            <a:ext cx="342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Учебный матери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576360" y="591336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5869080" y="4149720"/>
            <a:ext cx="226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актуальные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: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исполнительская компетен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"/>
          <p:cNvPicPr/>
          <p:nvPr/>
        </p:nvPicPr>
        <p:blipFill>
          <a:blip r:embed="rId1"/>
          <a:stretch/>
        </p:blipFill>
        <p:spPr>
          <a:xfrm>
            <a:off x="0" y="3141720"/>
            <a:ext cx="2592360" cy="1654200"/>
          </a:xfrm>
          <a:prstGeom prst="rect">
            <a:avLst/>
          </a:prstGeom>
          <a:ln w="0">
            <a:noFill/>
          </a:ln>
        </p:spPr>
      </p:pic>
      <p:sp>
        <p:nvSpPr>
          <p:cNvPr id="316" name="Oval 10"/>
          <p:cNvSpPr/>
          <p:nvPr/>
        </p:nvSpPr>
        <p:spPr>
          <a:xfrm>
            <a:off x="468360" y="3897360"/>
            <a:ext cx="1727280" cy="433440"/>
          </a:xfrm>
          <a:prstGeom prst="ellipse">
            <a:avLst/>
          </a:prstGeom>
          <a:noFill/>
          <a:ln w="31680">
            <a:solidFill>
              <a:srgbClr val="99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/>
          <p:cNvSpPr/>
          <p:nvPr/>
        </p:nvSpPr>
        <p:spPr>
          <a:xfrm rot="10800000">
            <a:off x="468360" y="2541240"/>
            <a:ext cx="1386000" cy="539640"/>
          </a:xfrm>
          <a:prstGeom prst="wedgeRoundRectCallout">
            <a:avLst>
              <a:gd name="adj1" fmla="val -41865"/>
              <a:gd name="adj2" fmla="val -247060"/>
              <a:gd name="adj3" fmla="val 16667"/>
            </a:avLst>
          </a:prstGeom>
          <a:solidFill>
            <a:srgbClr val="a3c2c2"/>
          </a:soli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ыпуск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уч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2000" y="2492280"/>
            <a:ext cx="212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перспективны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: </a:t>
            </a: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зона ближайше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358920" y="1341360"/>
            <a:ext cx="3925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итоговую оценку выносятся метапредметные и предметные результаты, представленные в блоках «Выпускник научи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216000" y="5084640"/>
            <a:ext cx="522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стижение этих результатов проверяется с помощью учебно-познавательных и учебно-практических задач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азов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вышенн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ровней, построенных н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орн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учебном матери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5"/>
          <p:cNvSpPr/>
          <p:nvPr/>
        </p:nvSpPr>
        <p:spPr>
          <a:xfrm>
            <a:off x="5832360" y="1197000"/>
            <a:ext cx="2482920" cy="684360"/>
          </a:xfrm>
          <a:prstGeom prst="wedgeRoundRectCallout">
            <a:avLst>
              <a:gd name="adj1" fmla="val 2379"/>
              <a:gd name="adj2" fmla="val 108240"/>
              <a:gd name="adj3" fmla="val 16667"/>
            </a:avLst>
          </a:prstGeom>
          <a:solidFill>
            <a:srgbClr val="c2d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904000" y="1341360"/>
            <a:ext cx="25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  <a:ea typeface="Arial"/>
              </a:rPr>
              <a:t>Задания повышенн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7"/>
          <p:cNvSpPr/>
          <p:nvPr/>
        </p:nvSpPr>
        <p:spPr>
          <a:xfrm>
            <a:off x="5832360" y="5324400"/>
            <a:ext cx="2448000" cy="684360"/>
          </a:xfrm>
          <a:prstGeom prst="wedgeRoundRectCallout">
            <a:avLst>
              <a:gd name="adj1" fmla="val 13685"/>
              <a:gd name="adj2" fmla="val -99189"/>
              <a:gd name="adj3" fmla="val 16667"/>
            </a:avLst>
          </a:prstGeom>
          <a:solidFill>
            <a:srgbClr val="c2d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5832360" y="53737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Задания базов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2879640" y="2889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собое место занимаю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E435-140A-45CF-8544-8BE8E9508355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предметных, метапредметных, личностных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тельная и критериальная основа – планируемые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етание внутренней и внешней 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копительная система оценки индивидуальных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персонифицированных процедур в целях итоговой оценки и аттестации обучающихся и неперсонифицированных процедур в целях оценки состояния и тенденций развития системы образования, а также в иных аттестацион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способности решать учебно-познавательные и учебно-практически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 стандартизированных и нестандартизиро-ванных методов (устных и письменных, индивидуальных и групповых, само- и взаимооценки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0" y="152280"/>
            <a:ext cx="8964720" cy="90036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истема оценки: основные особен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новой системы оценки достижения планируемых результ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ценка динамики образовательных достижений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ровневый подход к разработке планируемых результатов, инструментария и представлению данны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накопительной системы оценивания (портфолио), характеризующей динамику индивидуальных образовательных достиж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наряду со стандартизированными письменными или устными работами таких методов оценки, как проекты, практические работы, творческие работы, самоанализ и самооценка, наблюдения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контекстной информации об условиях и особенностях реализации образовательных программ при интерпретации результатов педагогических измер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760" y="189000"/>
            <a:ext cx="8015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ни описания планируемых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-ориентиры, определяющие ведущие целевые установки и основные ожидаемые результаты изучения данного учебного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, характеризующие систему учебных действий в отношении опорного учеб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и, характеризующие систему учебных действий в отношении знаний, умений, навыков, расширяющих и углубляющих опорную систему или выступающих как пропедевтика для дальнейшего изучения данного предм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системы оценки достижения планируемых результа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8000" y="1412640"/>
            <a:ext cx="8280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  определять  основные направления и цели оценочной деятельности, ориентированной на управление качеством образования, описывать объект и содержание оценки, критерии, процедуры и состав инструментария оценивания, формы представления результатов, условия и границы применения системы 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 ориентировать образовательный процесс на духовно-нравственное развитие и воспитание обучающихся, реализацию требований к результатам  освоения основной образовательной программы основ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 обеспечивать комплексный подход к оценке результатов освоения основной образовательной программы основного общего образования, позволяющий вести оценку предметных, метапредметных и личностных результатов основно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системы оценки достижения планируемых результат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8360" y="1412640"/>
            <a:ext cx="8136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 обеспечивать оценку динамики индивидуальных достижений обучающихся в процессе освоения основной общеобразовательной программы основного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 предусматривать использование разнообразных методов и форм, взаимно дополняющих друг друга (стандартизированные письменные и устные работы, проекты, практические работы, творческие работы, самоанализ и самооценка, наблю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 позволять использовать результаты итоговой оценки выпускников, характеризующие уровень достижения планируемых результатов освоения основной образовательной программы основного общего образования, как основы для оценки деятельности образовательного  учреждения и системы образования разного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 rot="5400000">
            <a:off x="1800000" y="4545000"/>
            <a:ext cx="1368360" cy="1584360"/>
          </a:xfrm>
          <a:prstGeom prst="wedgeRoundRectCallout">
            <a:avLst>
              <a:gd name="adj1" fmla="val -56268"/>
              <a:gd name="adj2" fmla="val 95587"/>
              <a:gd name="adj3" fmla="val 16667"/>
            </a:avLst>
          </a:prstGeom>
          <a:solidFill>
            <a:srgbClr val="fafa02"/>
          </a:solidFill>
          <a:ln w="12600">
            <a:solidFill>
              <a:srgbClr val="faf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Качество системы (услов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 rot="5400000">
            <a:off x="3779640" y="4148280"/>
            <a:ext cx="2592720" cy="2017440"/>
          </a:xfrm>
          <a:prstGeom prst="wedgeRoundRectCallout">
            <a:avLst>
              <a:gd name="adj1" fmla="val -58268"/>
              <a:gd name="adj2" fmla="val 66990"/>
              <a:gd name="adj3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Эффектив-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обу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воспитания,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56360" y="2781360"/>
            <a:ext cx="2303280" cy="14396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afa02"/>
                </a:solidFill>
                <a:latin typeface="Tahoma"/>
              </a:rPr>
              <a:t>Составляющие качества образова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4400" y="2335320"/>
            <a:ext cx="7124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2400" spc="-1" strike="noStrike">
                <a:solidFill>
                  <a:srgbClr val="fafa02"/>
                </a:solidFill>
                <a:latin typeface="Tahoma"/>
              </a:rPr>
              <a:t>образовате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a02"/>
                </a:solidFill>
                <a:latin typeface="Tahoma"/>
              </a:rPr>
              <a:t>                                 </a:t>
            </a:r>
            <a:r>
              <a:rPr b="1" lang="ru-RU" sz="2400" spc="-1" strike="noStrike">
                <a:solidFill>
                  <a:srgbClr val="fafa02"/>
                </a:solidFill>
                <a:latin typeface="Tahoma"/>
              </a:rPr>
              <a:t>проц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258920" y="292428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22764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 Cyr"/>
                <a:ea typeface="Arial"/>
              </a:rPr>
              <a:t>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755640" y="2492280"/>
            <a:ext cx="2592360" cy="208908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3348000" y="3284640"/>
            <a:ext cx="2808360" cy="504720"/>
          </a:xfrm>
          <a:prstGeom prst="rightArrow">
            <a:avLst>
              <a:gd name="adj1" fmla="val 50000"/>
              <a:gd name="adj2" fmla="val 139105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55640" y="256536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  <a:ea typeface="Arial"/>
              </a:rPr>
              <a:t>Образова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  <a:ea typeface="Arial"/>
              </a:rPr>
              <a:t>(педагоги, обучающиеся, образовательные программы и УММ, инфраструк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 rot="5400000">
            <a:off x="6840360" y="4329000"/>
            <a:ext cx="1439640" cy="1513080"/>
          </a:xfrm>
          <a:prstGeom prst="wedgeRoundRectCallout">
            <a:avLst>
              <a:gd name="adj1" fmla="val -60037"/>
              <a:gd name="adj2" fmla="val 82629"/>
              <a:gd name="adj3" fmla="val 16667"/>
            </a:avLst>
          </a:prstGeom>
          <a:solidFill>
            <a:srgbClr val="fafa0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 Cyr"/>
                <a:ea typeface="Arial"/>
              </a:rPr>
              <a:t>Качество образова-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6372360" y="907920"/>
            <a:ext cx="2447640" cy="1513080"/>
          </a:xfrm>
          <a:prstGeom prst="wedgeRoundRectCallout">
            <a:avLst>
              <a:gd name="adj1" fmla="val -37222"/>
              <a:gd name="adj2" fmla="val 68782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372360" y="1197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Удовлетворенность потребителей и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250920" y="162864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качеством системы и процессом ее функционирования 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58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ределение функций 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ъекты и вид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8964720" cy="55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A58-7F73-4F85-B075-4AAACE9E195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"/>
          <p:cNvSpPr/>
          <p:nvPr/>
        </p:nvSpPr>
        <p:spPr>
          <a:xfrm>
            <a:off x="647640" y="1305000"/>
            <a:ext cx="7993080" cy="900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ahoma"/>
              </a:rPr>
              <a:t>Овладение системой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ahoma"/>
              </a:rPr>
              <a:t>с изучаемым учеб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1619280" y="5121360"/>
            <a:ext cx="6121440" cy="14414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пособность к реш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учебно-познавательных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учебно-практических зада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3132000" y="4508640"/>
            <a:ext cx="2989440" cy="46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"/>
          <p:cNvSpPr/>
          <p:nvPr/>
        </p:nvSpPr>
        <p:spPr>
          <a:xfrm>
            <a:off x="108000" y="2349360"/>
            <a:ext cx="2808360" cy="1943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Tahoma"/>
              </a:rPr>
              <a:t>личностные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самоопре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смысл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морально-э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"/>
          <p:cNvSpPr/>
          <p:nvPr/>
        </p:nvSpPr>
        <p:spPr>
          <a:xfrm>
            <a:off x="2951280" y="2384280"/>
            <a:ext cx="3203280" cy="190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ff"/>
                </a:solidFill>
                <a:uFillTx/>
                <a:latin typeface="Tahoma"/>
              </a:rPr>
              <a:t>метапредметные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онятия 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коммун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озна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"/>
          <p:cNvSpPr/>
          <p:nvPr/>
        </p:nvSpPr>
        <p:spPr>
          <a:xfrm>
            <a:off x="6227640" y="2384280"/>
            <a:ext cx="2808360" cy="190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99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Tahoma"/>
              </a:rPr>
              <a:t>предметные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освоение системат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ческих зна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еобразование, п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менение и самосто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тельное по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нани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0" y="115920"/>
            <a:ext cx="8928000" cy="108108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ка дости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23640" y="1628280"/>
            <a:ext cx="25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дмет оцен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771280" y="1341000"/>
            <a:ext cx="61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ированность учебных дей-ствий с предметным содерж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решению учебно-познавательных и учебно-практи-ческих задач с использованием средств, релевантных содержанию учеб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внутренняя накопленн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итогов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процедуры внешне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0" y="152280"/>
            <a:ext cx="8964720" cy="97308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Оценка предметных результат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0BC1-1787-43BB-BBB9-2608266343A1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116000" y="1392120"/>
            <a:ext cx="7272360" cy="459360"/>
          </a:xfrm>
          <a:prstGeom prst="rect">
            <a:avLst/>
          </a:prstGeom>
          <a:gradFill rotWithShape="0">
            <a:gsLst>
              <a:gs pos="0">
                <a:srgbClr val="f3f9fa"/>
              </a:gs>
              <a:gs pos="100000">
                <a:srgbClr val="eef7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Arial"/>
              </a:rPr>
              <a:t>МЕТАПРЕДМЕТНЫЕ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"/>
          <p:cNvSpPr/>
          <p:nvPr/>
        </p:nvSpPr>
        <p:spPr>
          <a:xfrm>
            <a:off x="108000" y="1989000"/>
            <a:ext cx="2195640" cy="503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регуля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"/>
          <p:cNvSpPr/>
          <p:nvPr/>
        </p:nvSpPr>
        <p:spPr>
          <a:xfrm>
            <a:off x="2340000" y="1989000"/>
            <a:ext cx="374472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6443640" y="1989000"/>
            <a:ext cx="259092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Tahoma"/>
              </a:rPr>
              <a:t>познавате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"/>
          <p:cNvSpPr/>
          <p:nvPr/>
        </p:nvSpPr>
        <p:spPr>
          <a:xfrm>
            <a:off x="108000" y="2492280"/>
            <a:ext cx="2195640" cy="2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"/>
          <p:cNvSpPr/>
          <p:nvPr/>
        </p:nvSpPr>
        <p:spPr>
          <a:xfrm>
            <a:off x="2340000" y="256536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речевые средства,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т.ч. с опорой на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"/>
          <p:cNvSpPr/>
          <p:nvPr/>
        </p:nvSpPr>
        <p:spPr>
          <a:xfrm>
            <a:off x="6443640" y="2492280"/>
            <a:ext cx="2590920" cy="1152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работа с инфо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мацией: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оис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запись, воспри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в т.ч. сред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108000" y="2781360"/>
            <a:ext cx="2195640" cy="2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108000" y="3068640"/>
            <a:ext cx="2195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"/>
          <p:cNvSpPr/>
          <p:nvPr/>
        </p:nvSpPr>
        <p:spPr>
          <a:xfrm>
            <a:off x="108000" y="3500280"/>
            <a:ext cx="2195640" cy="28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"/>
          <p:cNvSpPr/>
          <p:nvPr/>
        </p:nvSpPr>
        <p:spPr>
          <a:xfrm>
            <a:off x="108000" y="3789360"/>
            <a:ext cx="2195640" cy="2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"/>
          <p:cNvSpPr/>
          <p:nvPr/>
        </p:nvSpPr>
        <p:spPr>
          <a:xfrm>
            <a:off x="2340000" y="3284640"/>
            <a:ext cx="2879640" cy="57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коммуникация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взаимо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"/>
          <p:cNvSpPr/>
          <p:nvPr/>
        </p:nvSpPr>
        <p:spPr>
          <a:xfrm>
            <a:off x="6443640" y="3645000"/>
            <a:ext cx="2590920" cy="720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моделей, зн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 символов,сх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"/>
          <p:cNvSpPr/>
          <p:nvPr/>
        </p:nvSpPr>
        <p:spPr>
          <a:xfrm>
            <a:off x="6443640" y="4365720"/>
            <a:ext cx="2590920" cy="1873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buClr>
                <a:srgbClr val="6699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логические оп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рации: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анали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интез, сравн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ериация, клас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фикация, обоб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ние, под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од понятие, а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     </a:t>
            </a:r>
            <a:r>
              <a:rPr b="0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логия, 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"/>
          <p:cNvSpPr/>
          <p:nvPr/>
        </p:nvSpPr>
        <p:spPr>
          <a:xfrm>
            <a:off x="5219640" y="2565360"/>
            <a:ext cx="1187640" cy="792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"/>
          <p:cNvSpPr/>
          <p:nvPr/>
        </p:nvSpPr>
        <p:spPr>
          <a:xfrm>
            <a:off x="5219640" y="3357720"/>
            <a:ext cx="1187640" cy="1692000"/>
          </a:xfrm>
          <a:custGeom>
            <a:avLst/>
            <a:gdLst>
              <a:gd name="textAreaLeft" fmla="*/ 57960 w 1187640"/>
              <a:gd name="textAreaRight" fmla="*/ 1129680 w 1187640"/>
              <a:gd name="textAreaTop" fmla="*/ 57960 h 1692000"/>
              <a:gd name="textAreaBottom" fmla="*/ 1634040 h 1692000"/>
            </a:gdLst>
            <a:ahLst/>
            <a:rect l="textAreaLeft" t="textAreaTop" r="textAreaRight" b="textAreaBottom"/>
            <a:pathLst>
              <a:path w="21600" h="30770">
                <a:moveTo>
                  <a:pt x="3600" y="0"/>
                </a:moveTo>
                <a:arcTo wR="3600" hR="3600" stAng="16200000" swAng="-5400000"/>
                <a:lnTo>
                  <a:pt x="0" y="27170"/>
                </a:lnTo>
                <a:arcTo wR="3600" hR="3600" stAng="10800000" swAng="-5400000"/>
                <a:lnTo>
                  <a:pt x="18000" y="30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Прое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иссле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вате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деяте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99"/>
                </a:solidFill>
                <a:latin typeface="Tahoma"/>
                <a:ea typeface="Arial"/>
              </a:rPr>
              <a:t>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2771640" y="4508640"/>
            <a:ext cx="2521080" cy="2233440"/>
          </a:xfrm>
          <a:prstGeom prst="irregularSeal1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Оценк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3"/>
          <p:cNvSpPr/>
          <p:nvPr/>
        </p:nvSpPr>
        <p:spPr>
          <a:xfrm>
            <a:off x="179280" y="4581360"/>
            <a:ext cx="2376720" cy="2087640"/>
          </a:xfrm>
          <a:prstGeom prst="irregularSeal1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ценк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ы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 flipV="1">
            <a:off x="1763640" y="3357360"/>
            <a:ext cx="1008000" cy="1223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 flipV="1">
            <a:off x="3780000" y="2852640"/>
            <a:ext cx="0" cy="194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 flipV="1">
            <a:off x="4427640" y="2420640"/>
            <a:ext cx="1296720" cy="21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 flipV="1">
            <a:off x="4859280" y="2276640"/>
            <a:ext cx="2738520" cy="2736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1116000" y="2349360"/>
            <a:ext cx="0" cy="244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71280" y="155520"/>
            <a:ext cx="8712360" cy="100800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тапредмет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1066680" y="189000"/>
            <a:ext cx="7969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ланируемые результаты. Кодификато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1468440" y="1347840"/>
            <a:ext cx="6553080" cy="459360"/>
          </a:xfrm>
          <a:prstGeom prst="rect">
            <a:avLst/>
          </a:prstGeom>
          <a:gradFill rotWithShape="0">
            <a:gsLst>
              <a:gs pos="0">
                <a:srgbClr val="f3f9fa"/>
              </a:gs>
              <a:gs pos="100000">
                <a:srgbClr val="eef7f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Arial"/>
              </a:rPr>
              <a:t>ЛИЧНОСТНЫЕ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539640" y="1989000"/>
            <a:ext cx="2376720" cy="863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сам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"/>
          <p:cNvSpPr/>
          <p:nvPr/>
        </p:nvSpPr>
        <p:spPr>
          <a:xfrm>
            <a:off x="3203640" y="1989000"/>
            <a:ext cx="2592360" cy="863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смысл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"/>
          <p:cNvSpPr/>
          <p:nvPr/>
        </p:nvSpPr>
        <p:spPr>
          <a:xfrm>
            <a:off x="6262560" y="1989000"/>
            <a:ext cx="2268720" cy="863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мор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э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ори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250920" y="2924280"/>
            <a:ext cx="2843280" cy="11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внутренняя 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школьника</a:t>
            </a: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тношение к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тношение к учеб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бразец 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хорошего</a:t>
            </a:r>
            <a:r>
              <a:rPr b="0" lang="en-US" sz="1400" spc="-1" strike="noStrike">
                <a:solidFill>
                  <a:srgbClr val="3333ff"/>
                </a:solidFill>
                <a:latin typeface="Arial"/>
              </a:rPr>
              <a:t>”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уче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"/>
          <p:cNvSpPr/>
          <p:nvPr/>
        </p:nvSpPr>
        <p:spPr>
          <a:xfrm>
            <a:off x="250920" y="4149720"/>
            <a:ext cx="2843280" cy="100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основы гражда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идентичности</a:t>
            </a: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Я – гражданин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Я и общее благополучие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Я и другие (этнос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"/>
          <p:cNvSpPr/>
          <p:nvPr/>
        </p:nvSpPr>
        <p:spPr>
          <a:xfrm>
            <a:off x="3203640" y="2924280"/>
            <a:ext cx="2736720" cy="13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мотив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основа и интере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широта, выраженнос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устойчивость мотив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устойчивость интер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к новому материалу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способам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"/>
          <p:cNvSpPr/>
          <p:nvPr/>
        </p:nvSpPr>
        <p:spPr>
          <a:xfrm>
            <a:off x="6045120" y="2924280"/>
            <a:ext cx="3022560" cy="360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Знание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3203640" y="4292640"/>
            <a:ext cx="273672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Самооценк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рефлекс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риентация на самооцен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способность к самооценке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"/>
          <p:cNvSpPr/>
          <p:nvPr/>
        </p:nvSpPr>
        <p:spPr>
          <a:xfrm>
            <a:off x="6045120" y="3284640"/>
            <a:ext cx="3022560" cy="111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Моральное созн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дифференциация мор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и конвенциональн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нравственная ори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этические чув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эмпатия (сопереживани</a:t>
            </a:r>
            <a:r>
              <a:rPr b="0" lang="ru-RU" sz="1400" spc="-1" strike="noStrike">
                <a:solidFill>
                  <a:srgbClr val="669999"/>
                </a:solidFill>
                <a:latin typeface="Tahoma"/>
              </a:rPr>
              <a:t>е)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6045120" y="4365720"/>
            <a:ext cx="3022560" cy="826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Ценностные установ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здоровый образ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охрана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чувство прекрас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buClr>
                <a:srgbClr val="3333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Tahoma"/>
              </a:rPr>
              <a:t>ценность труда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5"/>
          <p:cNvSpPr/>
          <p:nvPr/>
        </p:nvSpPr>
        <p:spPr>
          <a:xfrm>
            <a:off x="2050920" y="5661000"/>
            <a:ext cx="122400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шк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6"/>
          <p:cNvSpPr/>
          <p:nvPr/>
        </p:nvSpPr>
        <p:spPr>
          <a:xfrm>
            <a:off x="227160" y="5778360"/>
            <a:ext cx="122364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Я 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дру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"/>
          <p:cNvSpPr/>
          <p:nvPr/>
        </p:nvSpPr>
        <p:spPr>
          <a:xfrm>
            <a:off x="5651640" y="5661000"/>
            <a:ext cx="122400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Мор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созн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и н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>
            <a:off x="7380360" y="5661000"/>
            <a:ext cx="143964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Ценно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устан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9"/>
          <p:cNvSpPr/>
          <p:nvPr/>
        </p:nvSpPr>
        <p:spPr>
          <a:xfrm>
            <a:off x="3851280" y="5661000"/>
            <a:ext cx="122400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eef7f8"/>
              </a:gs>
              <a:gs pos="100000">
                <a:srgbClr val="fafd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Рефлек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 flipH="1">
            <a:off x="2700360" y="3500280"/>
            <a:ext cx="719280" cy="21621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5"/>
          <p:cNvSpPr/>
          <p:nvPr/>
        </p:nvSpPr>
        <p:spPr>
          <a:xfrm>
            <a:off x="1476360" y="3716280"/>
            <a:ext cx="1079640" cy="1944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6"/>
          <p:cNvSpPr/>
          <p:nvPr/>
        </p:nvSpPr>
        <p:spPr>
          <a:xfrm>
            <a:off x="4427640" y="5084640"/>
            <a:ext cx="0" cy="576360"/>
          </a:xfrm>
          <a:prstGeom prst="line">
            <a:avLst/>
          </a:prstGeom>
          <a:ln w="3168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7"/>
          <p:cNvSpPr/>
          <p:nvPr/>
        </p:nvSpPr>
        <p:spPr>
          <a:xfrm>
            <a:off x="6156360" y="3068640"/>
            <a:ext cx="0" cy="2592360"/>
          </a:xfrm>
          <a:prstGeom prst="line">
            <a:avLst/>
          </a:prstGeom>
          <a:ln w="31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6443280" y="3500280"/>
            <a:ext cx="865080" cy="2160720"/>
          </a:xfrm>
          <a:prstGeom prst="line">
            <a:avLst/>
          </a:prstGeom>
          <a:ln w="31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7885080" y="5157720"/>
            <a:ext cx="0" cy="576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900000" y="5084640"/>
            <a:ext cx="0" cy="576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6"/>
          <p:cNvSpPr/>
          <p:nvPr/>
        </p:nvSpPr>
        <p:spPr>
          <a:xfrm>
            <a:off x="1995120" y="6670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"/>
          <p:cNvSpPr/>
          <p:nvPr/>
        </p:nvSpPr>
        <p:spPr>
          <a:xfrm>
            <a:off x="216000" y="152280"/>
            <a:ext cx="8712000" cy="1008360"/>
          </a:xfrm>
          <a:prstGeom prst="roundRect">
            <a:avLst>
              <a:gd name="adj" fmla="val 49106"/>
            </a:avLst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Оцен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личностных результат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03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зюме – Роль и функции системы оценки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 обеспечении качества образова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0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оценивания выступает не только как средство обучения, регулятор образовательного процесса, но и к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ый и самоценный элемент содерж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о повышения эффективности преподавания и у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, обеспечивающий единство вариативной системы образования и регулятор программы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640" y="498600"/>
            <a:ext cx="849636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юме –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Общие принципы новой системы оценивани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210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е является постоянным процессом, естественным образо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грирова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образовательную прак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е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итериальным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ми критериями оценивания выступают планируемые результа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количественном и качественном выражен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ться с помощью отметки могут тольк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результаты деятель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ченика и процесс их формирования, но не личные качества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оценивания выстраивается таким образом, чтобы учащиеся включались в контрольно-оценочную деятельность, приобретая навыки и привычку 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оценк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взаимооцен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– за счет выбора процедур, форм, содержания оценоч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09480" y="1599840"/>
            <a:ext cx="7925040" cy="4419720"/>
          </a:xfrm>
          <a:prstGeom prst="rect">
            <a:avLst/>
          </a:prstGeom>
          <a:ln w="0">
            <a:noFill/>
          </a:ln>
        </p:spPr>
      </p:pic>
      <p:sp>
        <p:nvSpPr>
          <p:cNvPr id="410" name="Овал 2"/>
          <p:cNvSpPr/>
          <p:nvPr/>
        </p:nvSpPr>
        <p:spPr>
          <a:xfrm>
            <a:off x="2268360" y="1844640"/>
            <a:ext cx="4464360" cy="37861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"/>
          <p:cNvSpPr/>
          <p:nvPr/>
        </p:nvSpPr>
        <p:spPr>
          <a:xfrm>
            <a:off x="3147840" y="2421000"/>
            <a:ext cx="2719440" cy="2592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3"/>
          <p:cNvSpPr/>
          <p:nvPr/>
        </p:nvSpPr>
        <p:spPr>
          <a:xfrm>
            <a:off x="3780000" y="2997360"/>
            <a:ext cx="1512720" cy="1511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6"/>
          <p:cNvSpPr/>
          <p:nvPr/>
        </p:nvSpPr>
        <p:spPr>
          <a:xfrm>
            <a:off x="4211640" y="3390840"/>
            <a:ext cx="647640" cy="6526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икл управления качество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079640" y="2122560"/>
            <a:ext cx="455436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1079640" y="2122560"/>
            <a:ext cx="12906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843280" y="1197000"/>
          <a:ext cx="6121440" cy="5472000"/>
        </p:xfrm>
        <a:graphic>
          <a:graphicData uri="http://schemas.openxmlformats.org/drawingml/2006/table">
            <a:tbl>
              <a:tblPr/>
              <a:tblGrid>
                <a:gridCol w="1635120"/>
                <a:gridCol w="4486320"/>
              </a:tblGrid>
              <a:tr h="133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остановка образовательных целей, основанные на нуждах потребителя и планирование способов их достиж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рганизация и осуществление образовательного процесса и обеспечивающих процес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Мониторинг,  оценивание,  сравнение с критериальными значениями, анализ результатов,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правление, корректирующие и предупреждающие действия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лучшение процесс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204" name="Picture 8" descr="http://www.ispu.ru/library/tqm/sprav/plan.gif"/>
          <p:cNvPicPr/>
          <p:nvPr/>
        </p:nvPicPr>
        <p:blipFill>
          <a:blip r:embed="rId2"/>
          <a:stretch/>
        </p:blipFill>
        <p:spPr>
          <a:xfrm>
            <a:off x="1332000" y="1125360"/>
            <a:ext cx="1133280" cy="116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http://www.ispu.ru/library/tqm/sprav/making.gif"/>
          <p:cNvPicPr/>
          <p:nvPr/>
        </p:nvPicPr>
        <p:blipFill>
          <a:blip r:embed="rId3"/>
          <a:stretch/>
        </p:blipFill>
        <p:spPr>
          <a:xfrm>
            <a:off x="1332000" y="2276640"/>
            <a:ext cx="113328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www.ispu.ru/library/tqm/sprav/checkup.gif"/>
          <p:cNvPicPr/>
          <p:nvPr/>
        </p:nvPicPr>
        <p:blipFill>
          <a:blip r:embed="rId4"/>
          <a:stretch/>
        </p:blipFill>
        <p:spPr>
          <a:xfrm>
            <a:off x="179280" y="2276640"/>
            <a:ext cx="1133640" cy="10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ispu.ru/library/tqm/sprav/deal.gif"/>
          <p:cNvPicPr/>
          <p:nvPr/>
        </p:nvPicPr>
        <p:blipFill>
          <a:blip r:embed="rId5"/>
          <a:stretch/>
        </p:blipFill>
        <p:spPr>
          <a:xfrm>
            <a:off x="179280" y="112536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9" descr="http://www.ispu.ru/library/tqm/sprav/plan.gif"/>
          <p:cNvPicPr/>
          <p:nvPr/>
        </p:nvPicPr>
        <p:blipFill>
          <a:blip r:embed="rId6"/>
          <a:stretch/>
        </p:blipFill>
        <p:spPr>
          <a:xfrm>
            <a:off x="2987640" y="134136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0" descr="http://www.ispu.ru/library/tqm/sprav/making.gif"/>
          <p:cNvPicPr/>
          <p:nvPr/>
        </p:nvPicPr>
        <p:blipFill>
          <a:blip r:embed="rId7"/>
          <a:stretch/>
        </p:blipFill>
        <p:spPr>
          <a:xfrm>
            <a:off x="2987640" y="2637000"/>
            <a:ext cx="1133640" cy="100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1" descr="http://www.ispu.ru/library/tqm/sprav/checkup.gif"/>
          <p:cNvPicPr/>
          <p:nvPr/>
        </p:nvPicPr>
        <p:blipFill>
          <a:blip r:embed="rId8"/>
          <a:stretch/>
        </p:blipFill>
        <p:spPr>
          <a:xfrm>
            <a:off x="2916360" y="4149720"/>
            <a:ext cx="11332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2" descr="http://www.ispu.ru/library/tqm/sprav/deal.gif"/>
          <p:cNvPicPr/>
          <p:nvPr/>
        </p:nvPicPr>
        <p:blipFill>
          <a:blip r:embed="rId9"/>
          <a:stretch/>
        </p:blipFill>
        <p:spPr>
          <a:xfrm>
            <a:off x="2916360" y="5445000"/>
            <a:ext cx="11332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е результаты  общего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1120" y="155736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ывают систему учебных действий, которые осваиваются учащимися при изучении учеб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жат содержательной и критериальной основой разработки образовательных программ и программ развития образовательных учреждений, учебных программ и учебно-методической литературы, системы оценки достижения требований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разрабатываются для основных междисциплинарных программ и всех учебных программ, обеспечивающих реализацию инвариантной части базисного учебного (образовательного) пл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ются основой для оценки достижения требований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жат нормативной основой и для различных оценочных процедур, и для определения содержания и организации образовательного процес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адресаты и пользователи планируемых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чащиеся и их родител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ца, принимающие реше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 развитии системы образования на разных ее уровнях (федеральном, региональном, муниципальном), в том числе члены управляющих сове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фессиональное педагогическое сообществ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  работники образования (учителя и школьные психолог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работники образования (руководители образовательных учреждений,  авторы программ и учебников, разработчики различных измерительных материалов, сотрудники различных служб контроля и оценки качества образова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2A64-B876-4BED-AC40-482A0E10B3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885-BB3B-44FB-884B-4B540EC21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00DF-14CA-4995-BD8E-E5C16418E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720" y="274320"/>
            <a:ext cx="9180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108000" y="1484280"/>
            <a:ext cx="1008000" cy="4608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4608720"/>
              <a:gd name="textAreaBottom" fmla="*/ 4559760 h 4608720"/>
            </a:gdLst>
            <a:ahLst/>
            <a:rect l="textAreaLeft" t="textAreaTop" r="textAreaRight" b="textAreaBottom"/>
            <a:pathLst>
              <a:path w="21600" h="98731">
                <a:moveTo>
                  <a:pt x="3600" y="0"/>
                </a:moveTo>
                <a:arcTo wR="3600" hR="3600" stAng="16200000" swAng="-5400000"/>
                <a:lnTo>
                  <a:pt x="0" y="95131"/>
                </a:lnTo>
                <a:arcTo wR="3600" hR="3600" stAng="10800000" swAng="-5400000"/>
                <a:lnTo>
                  <a:pt x="18000" y="98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1187280" y="3645000"/>
            <a:ext cx="505080" cy="431640"/>
          </a:xfrm>
          <a:custGeom>
            <a:avLst/>
            <a:gdLst>
              <a:gd name="textAreaLeft" fmla="*/ 7884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1692360" y="1268280"/>
            <a:ext cx="2158920" cy="1297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5292720" y="17002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6"/>
          <p:cNvSpPr/>
          <p:nvPr/>
        </p:nvSpPr>
        <p:spPr>
          <a:xfrm>
            <a:off x="1763640" y="3213000"/>
            <a:ext cx="21607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воения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6"/>
          <p:cNvSpPr/>
          <p:nvPr/>
        </p:nvSpPr>
        <p:spPr>
          <a:xfrm>
            <a:off x="1692360" y="5156280"/>
            <a:ext cx="2232000" cy="144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ло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6084720" y="3321000"/>
            <a:ext cx="2880000" cy="14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6083280" y="1268280"/>
            <a:ext cx="288144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6"/>
          <p:cNvSpPr/>
          <p:nvPr/>
        </p:nvSpPr>
        <p:spPr>
          <a:xfrm>
            <a:off x="6083280" y="5229360"/>
            <a:ext cx="2881440" cy="1411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сурсы: кад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риальная ба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2484360" y="2637000"/>
            <a:ext cx="574920" cy="5047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6"/>
          <p:cNvSpPr/>
          <p:nvPr/>
        </p:nvSpPr>
        <p:spPr>
          <a:xfrm>
            <a:off x="2484360" y="4579920"/>
            <a:ext cx="574920" cy="5047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7"/>
          <p:cNvSpPr/>
          <p:nvPr/>
        </p:nvSpPr>
        <p:spPr>
          <a:xfrm>
            <a:off x="5292720" y="37162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5292720" y="558972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005c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4140360" y="1484280"/>
            <a:ext cx="1079280" cy="537372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5373720"/>
              <a:gd name="textAreaBottom" fmla="*/ 5321160 h 5373720"/>
            </a:gdLst>
            <a:ahLst/>
            <a:rect l="textAreaLeft" t="textAreaTop" r="textAreaRight" b="textAreaBottom"/>
            <a:pathLst>
              <a:path w="21600" h="107517">
                <a:moveTo>
                  <a:pt x="3600" y="0"/>
                </a:moveTo>
                <a:arcTo wR="3600" hR="3600" stAng="16200000" swAng="-5400000"/>
                <a:lnTo>
                  <a:pt x="0" y="103917"/>
                </a:lnTo>
                <a:arcTo wR="3600" hR="3600" stAng="10800000" swAng="-5400000"/>
                <a:lnTo>
                  <a:pt x="18000" y="107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99ff"/>
            </a:solidFill>
            <a:miter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08000" y="260280"/>
            <a:ext cx="8244000" cy="908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ндарт как совокупность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C23-0EB1-439B-A27F-ED375809C5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476280"/>
            <a:ext cx="9036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истема требований стандартов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ea typeface="Arial"/>
                <a:hlinkClick r:id="rId1" action="ppaction://hlinksldjump"/>
              </a:rPr>
              <a:t>результа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зафиксированы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личностные,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метапредметные, предметные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результ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преемственность результатов для разных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зафиксирован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системно-деятельностный 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ea typeface="Arial"/>
                <a:hlinkClick r:id="rId2" action="ppaction://hlinksldjump"/>
              </a:rPr>
              <a:t>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0033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зафиксировано наличие частей,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обязательной 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формируемой участниками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образовательного процесса и их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со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определены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разделы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ООП (содержательно и количествен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33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интеграция 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учебной и вне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9999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включена «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неаудиторная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занят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9000"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66"/>
                </a:solidFill>
                <a:uFillTx/>
                <a:latin typeface="Arial"/>
                <a:ea typeface="Arial"/>
                <a:hlinkClick r:id="rId3" action="ppaction://hlinksldjump"/>
              </a:rPr>
              <a:t>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кадр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финанс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материально-техническим</a:t>
            </a:r>
            <a:r>
              <a:rPr b="1" lang="ru-RU" sz="1800" spc="-1" strike="noStrike">
                <a:solidFill>
                  <a:srgbClr val="9999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6760" indent="-173160">
              <a:buClr>
                <a:srgbClr val="cc33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иным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(информационно-образовательная среда, учебно-методическое обеспе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>
            <a:hlinkClick r:id="rId4" action="ppaction://hlinksldjump"/>
          </p:cNvPr>
          <p:cNvSpPr/>
          <p:nvPr/>
        </p:nvSpPr>
        <p:spPr>
          <a:xfrm>
            <a:off x="8459640" y="6524640"/>
            <a:ext cx="216000" cy="22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6D9-4B21-4941-B612-3A5FB09316F0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98139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0" y="152280"/>
            <a:ext cx="8964720" cy="1260720"/>
          </a:xfrm>
          <a:prstGeom prst="roundRect">
            <a:avLst>
              <a:gd name="adj" fmla="val 49106"/>
            </a:avLst>
          </a:prstGeom>
          <a:solidFill>
            <a:srgbClr val="3333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изация требований ФГ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2376360" y="1557360"/>
            <a:ext cx="6193080" cy="53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РЕБОВАНИЯ СТАНД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"/>
          <p:cNvSpPr/>
          <p:nvPr/>
        </p:nvSpPr>
        <p:spPr>
          <a:xfrm>
            <a:off x="2376360" y="3608280"/>
            <a:ext cx="6302520" cy="39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ПЛАНИРУ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"/>
          <p:cNvSpPr/>
          <p:nvPr/>
        </p:nvSpPr>
        <p:spPr>
          <a:xfrm>
            <a:off x="2411280" y="2133720"/>
            <a:ext cx="1908360" cy="107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Порт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выпуск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4392720" y="2133720"/>
            <a:ext cx="4213080" cy="1079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Ведущие цел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установки ООП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требования к результ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340000" y="5049720"/>
            <a:ext cx="6408720" cy="1582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ОБРАЗОВАТЕЛЬ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"/>
          <p:cNvSpPr/>
          <p:nvPr/>
        </p:nvSpPr>
        <p:spPr>
          <a:xfrm rot="16200000">
            <a:off x="-1710000" y="3734640"/>
            <a:ext cx="4860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СИСТЕМА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достижения планиру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29"/>
                </a:solidFill>
                <a:latin typeface="Arial"/>
                <a:ea typeface="Arial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1440000" y="2600280"/>
            <a:ext cx="612720" cy="433440"/>
          </a:xfrm>
          <a:prstGeom prst="leftRightArrow">
            <a:avLst>
              <a:gd name="adj1" fmla="val 50000"/>
              <a:gd name="adj2" fmla="val 28142"/>
            </a:avLst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1440000" y="4221000"/>
            <a:ext cx="612720" cy="433440"/>
          </a:xfrm>
          <a:prstGeom prst="leftRightArrow">
            <a:avLst>
              <a:gd name="adj1" fmla="val 50000"/>
              <a:gd name="adj2" fmla="val 28142"/>
            </a:avLst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440000" y="5553000"/>
            <a:ext cx="612720" cy="433440"/>
          </a:xfrm>
          <a:prstGeom prst="leftRightArrow">
            <a:avLst>
              <a:gd name="adj1" fmla="val 50000"/>
              <a:gd name="adj2" fmla="val 28142"/>
            </a:avLst>
          </a:prstGeom>
          <a:gradFill rotWithShape="0">
            <a:gsLst>
              <a:gs pos="0">
                <a:srgbClr val="b2b2b2"/>
              </a:gs>
              <a:gs pos="50000">
                <a:srgbClr val="eaeaea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5148360" y="328464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00000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7056360" y="5192640"/>
            <a:ext cx="1368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Учащ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"/>
          <p:cNvSpPr/>
          <p:nvPr/>
        </p:nvSpPr>
        <p:spPr>
          <a:xfrm>
            <a:off x="5003640" y="5192640"/>
            <a:ext cx="1944720" cy="6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ОУ, педаг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2448000" y="5192640"/>
            <a:ext cx="23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2987640" y="5805360"/>
            <a:ext cx="1727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  <a:ea typeface="Arial"/>
              </a:rPr>
              <a:t>В том числе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  <a:ea typeface="Arial"/>
              </a:rPr>
              <a:t>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8"/>
          <p:cNvSpPr/>
          <p:nvPr/>
        </p:nvSpPr>
        <p:spPr>
          <a:xfrm>
            <a:off x="2376360" y="4041720"/>
            <a:ext cx="176544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b2b2b2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/>
          <p:cNvSpPr/>
          <p:nvPr/>
        </p:nvSpPr>
        <p:spPr>
          <a:xfrm>
            <a:off x="4284720" y="4041720"/>
            <a:ext cx="244800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b2dfd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912000" y="4041720"/>
            <a:ext cx="176544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b6b6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1"/>
          <p:cNvSpPr/>
          <p:nvPr/>
        </p:nvSpPr>
        <p:spPr>
          <a:xfrm>
            <a:off x="7667640" y="4437000"/>
            <a:ext cx="0" cy="936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2"/>
          <p:cNvSpPr/>
          <p:nvPr/>
        </p:nvSpPr>
        <p:spPr>
          <a:xfrm flipH="1">
            <a:off x="6084720" y="4437000"/>
            <a:ext cx="1619280" cy="863640"/>
          </a:xfrm>
          <a:prstGeom prst="line">
            <a:avLst/>
          </a:prstGeom>
          <a:ln w="63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3"/>
          <p:cNvSpPr/>
          <p:nvPr/>
        </p:nvSpPr>
        <p:spPr>
          <a:xfrm flipH="1">
            <a:off x="3600000" y="4437000"/>
            <a:ext cx="1979640" cy="863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4"/>
          <p:cNvSpPr/>
          <p:nvPr/>
        </p:nvSpPr>
        <p:spPr>
          <a:xfrm>
            <a:off x="5508720" y="4437000"/>
            <a:ext cx="1908000" cy="863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5543640" y="4437000"/>
            <a:ext cx="0" cy="863640"/>
          </a:xfrm>
          <a:prstGeom prst="line">
            <a:avLst/>
          </a:prstGeom>
          <a:ln w="63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3348000" y="4400640"/>
            <a:ext cx="0" cy="100800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7"/>
          <p:cNvSpPr/>
          <p:nvPr/>
        </p:nvSpPr>
        <p:spPr>
          <a:xfrm flipH="1">
            <a:off x="4284720" y="4437000"/>
            <a:ext cx="3346560" cy="8287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3348000" y="4400640"/>
            <a:ext cx="1979640" cy="900000"/>
          </a:xfrm>
          <a:prstGeom prst="line">
            <a:avLst/>
          </a:prstGeom>
          <a:ln w="63360">
            <a:solidFill>
              <a:srgbClr val="ff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4170240" y="2443320"/>
            <a:ext cx="474840" cy="328320"/>
          </a:xfrm>
          <a:prstGeom prst="rightArrow">
            <a:avLst>
              <a:gd name="adj1" fmla="val 50000"/>
              <a:gd name="adj2" fmla="val 50064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26B5-84AB-48A3-9923-228B7FB71008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42920" y="5624640"/>
            <a:ext cx="5761080" cy="1233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Внутренняя оценка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учитель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ученик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, ОУ и 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фиксирует динамику индивидуальных дост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527280" y="2637000"/>
            <a:ext cx="5508720" cy="971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Внешняя оценка: гос.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ahoma"/>
              </a:rPr>
              <a:t>задает общее понимание содержания и крите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"/>
          <p:cNvSpPr/>
          <p:nvPr/>
        </p:nvSpPr>
        <p:spPr>
          <a:xfrm flipH="1">
            <a:off x="6732360" y="2386080"/>
            <a:ext cx="34920" cy="34920"/>
          </a:xfrm>
          <a:prstGeom prst="line">
            <a:avLst/>
          </a:prstGeom>
          <a:ln w="1440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800360" y="3789360"/>
            <a:ext cx="4464000" cy="1655640"/>
          </a:xfrm>
          <a:prstGeom prst="roundRect">
            <a:avLst>
              <a:gd name="adj" fmla="val 16667"/>
            </a:avLst>
          </a:prstGeom>
          <a:solidFill>
            <a:srgbClr val="c2d6d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 Narrow"/>
              </a:rPr>
              <a:t>Государственная итог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 Narrow"/>
              </a:rPr>
              <a:t>аттестация/итоговая оценка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 Narrow"/>
              </a:rPr>
              <a:t>связь внешней и внутренней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 Narrow"/>
              </a:rPr>
              <a:t>основа для внешней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250920" y="1125360"/>
            <a:ext cx="8497800" cy="13305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Основной механизм</a:t>
            </a: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уточнение и распространение общего понимания содержательной и крит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риальной базы оценки через вовлечение педагогов и учащихся в осозна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Arial"/>
              </a:rPr>
              <a:t>текущую оценочную деятельность, согласованную с внешней оцен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 rot="10800000">
            <a:off x="178920" y="2637000"/>
            <a:ext cx="2521080" cy="971280"/>
          </a:xfrm>
          <a:prstGeom prst="wedgeRoundRectCallout">
            <a:avLst>
              <a:gd name="adj1" fmla="val -46009"/>
              <a:gd name="adj2" fmla="val 71513"/>
              <a:gd name="adj3" fmla="val 16667"/>
            </a:avLst>
          </a:prstGeom>
          <a:blipFill rotWithShape="0">
            <a:blip r:embed="rId1">
              <a:alphaModFix amt="66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250920" y="2565360"/>
            <a:ext cx="244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Необходимое услови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адекватность мет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и инструментария особенностям под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6551640" y="3933720"/>
            <a:ext cx="2592360" cy="1297080"/>
          </a:xfrm>
          <a:prstGeom prst="wedgeRoundRectCallout">
            <a:avLst>
              <a:gd name="adj1" fmla="val -61328"/>
              <a:gd name="adj2" fmla="val 47921"/>
              <a:gd name="adj3" fmla="val 16667"/>
            </a:avLst>
          </a:prstGeom>
          <a:blipFill rotWithShape="0">
            <a:blip r:embed="rId2">
              <a:alphaModFix amt="9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480000" y="4005360"/>
            <a:ext cx="25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Соотношение внутрен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Arial"/>
                <a:ea typeface="Arial"/>
              </a:rPr>
              <a:t>и внешней оценки в ито-говой оценке, ее состав зависти от ступени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6335640" y="5734080"/>
            <a:ext cx="2700360" cy="944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299280" y="58420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накопленная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Arial"/>
              </a:rPr>
              <a:t>и итогов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5904000" y="6058080"/>
            <a:ext cx="431640" cy="396720"/>
          </a:xfrm>
          <a:prstGeom prst="leftRightArrow">
            <a:avLst>
              <a:gd name="adj1" fmla="val 50000"/>
              <a:gd name="adj2" fmla="val 21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0" y="0"/>
            <a:ext cx="8893080" cy="946080"/>
          </a:xfrm>
          <a:prstGeom prst="roundRect">
            <a:avLst>
              <a:gd name="adj" fmla="val 49106"/>
            </a:avLst>
          </a:prstGeom>
          <a:solidFill>
            <a:srgbClr val="3333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еспечение качества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редством системы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7:50:22Z</dcterms:created>
  <dc:creator>777</dc:creator>
  <dc:description/>
  <dc:language>en-US</dc:language>
  <cp:lastModifiedBy>завуч</cp:lastModifiedBy>
  <dcterms:modified xsi:type="dcterms:W3CDTF">2016-03-14T08:57:33Z</dcterms:modified>
  <cp:revision>84</cp:revision>
  <dc:subject/>
  <dc:title>Место планируемых результатов в общей системе федерального стандарта</dc:title>
</cp:coreProperties>
</file>