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328-D4B3-4059-AB13-F9F1110A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B61-5281-4CDE-B98B-C01D3701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DC5-144B-4076-9FC8-89CF4992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43A-FBD7-4E8F-84B2-A37A6516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1653-AC51-4E73-9EB9-1ED3BD5F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361-3075-4A8F-8D2D-A209DD1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FF5-A93B-4E14-A106-36429CA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C44D-3957-4BE4-A72B-0A03411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0C76-3D34-4792-9940-644BC0FA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37A-1833-4917-8212-EC8853F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C26-3D62-471B-9EAD-D876A64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220-1C15-4608-9AF0-3C169225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97A6-3ED4-4967-9497-DBE1F0B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2504-FA53-443A-89E2-E2FAA86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FCA4-E44D-4140-9D1C-28588DA0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91F-13FF-45D5-883B-503D86F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3B40-D2F7-478E-9AC8-087645B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8052-37FA-4DD1-8CD0-1EF8E5CB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3335-8FEE-40A6-9995-34A286D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F5E6-3DC3-4C79-B8A1-4BBEF69D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41F0-03A9-4FB5-9F83-68A8DF56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C2B6-199C-458F-ADB5-3627221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427-013D-4C9D-AB53-264689CC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0F90-8B70-4894-B8BB-91C1F235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630A-B739-46A2-99B7-06335C7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CA62-73A4-49AB-AF6F-9F20760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2EAE-4127-4522-961B-02AC3CD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CA7CA-1C69-442B-BCA4-B0F3FB8D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A3CB-1154-467F-9FAF-A4D6F1D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EB49-A7C1-4A6B-AB0E-4D0A01D7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2144-5393-4B76-BE50-686F17D5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9C16-6CEA-4B9F-AEBF-71471DDC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BF87-F2F6-4C72-A5AE-16A9233B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A93-E68A-4288-9D62-3C6B9ECB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15550-5015-42D5-B59C-5381BD3F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45FF-0DFA-4B28-8D07-6E215BF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50E3-FD90-4A15-8F8F-E1D7098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B174A-2B5C-4EEB-A55F-12047C2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3DA0-AE7E-425C-9137-9429174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A694-CE78-41BA-9F69-CE718AE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6986-5378-479B-9B05-2C4A2DF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3167-3BD6-4B68-BDDA-1DDD8E23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FF19-C866-4133-990E-6FF7273E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315-AAB9-4164-94B4-A0DDA45D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DF0-2B7C-439E-AC59-90A25E0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B1B-5E2E-48DB-B44F-9EF77DC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F56-C48C-4A01-8BA9-1899A5A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F6B-9C7C-4381-B12F-40A654E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222C1-786F-41C4-A69E-E6AAC1258F2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51EA3-1FEF-42F7-A7DA-8672BA9A5B6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E72FA-88C7-46E7-AE39-E3326F5FE8F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65A25-5E02-4DA0-9444-C23C6A1C23F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865656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Особенности построения мониторинга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rebuchet MS"/>
              </a:rPr>
              <a:t>Как использовать результаты ВПР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126880" y="446040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зам. директора по УВ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МБОУ «Гатчинская СОШ № 2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3f7819"/>
                </a:solidFill>
                <a:latin typeface="Trebuchet MS"/>
              </a:rPr>
              <a:t>Кульбака Галина Борис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11280" y="1481040"/>
            <a:ext cx="753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57\Мои документы\Мои рисунки\13-27.jpg"/>
          <p:cNvPicPr/>
          <p:nvPr/>
        </p:nvPicPr>
        <p:blipFill>
          <a:blip r:embed="rId1"/>
          <a:stretch/>
        </p:blipFill>
        <p:spPr>
          <a:xfrm>
            <a:off x="879480" y="750960"/>
            <a:ext cx="83469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" descr=""/>
          <p:cNvPicPr/>
          <p:nvPr/>
        </p:nvPicPr>
        <p:blipFill>
          <a:blip r:embed="rId1"/>
          <a:srcRect l="0" t="0" r="67736" b="0"/>
          <a:stretch/>
        </p:blipFill>
        <p:spPr>
          <a:xfrm>
            <a:off x="3043080" y="746280"/>
            <a:ext cx="36752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3f7819"/>
                </a:solidFill>
                <a:latin typeface="Trebuchet MS"/>
              </a:rPr>
              <a:t>Формирование и развитие компетентностей педагогов через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1911240"/>
            <a:ext cx="8596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рсы повышения квалификации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частие в вебинарах, семинарах, мастер-классах...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мен опытом по оцениванию работ в рамках ШМО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оставление КИМ с критериальной базой для проведения промежуточной аттестации в ОУ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язательное коллективное обсуждение критериев оценивания перед проверкой работ (например, учителя русского языка 5-х классов)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бота в качестве учителей-экспертов региональных и территориальных предметных комисс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нформальное образова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Цели проведения ВПР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7880" y="1600200"/>
            <a:ext cx="92613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ценить уровень общеобразовательной подготовки по предмету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существить диагностику предметных, метапредметных результатов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пределить уровень овладения межпредметными понятиями, способностью использовать УУД в учебной, познавательной, социальной практик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57\Мои документы\Мои рисунки\get_file (24).png"/>
          <p:cNvPicPr/>
          <p:nvPr/>
        </p:nvPicPr>
        <p:blipFill>
          <a:blip r:embed="rId1"/>
          <a:stretch/>
        </p:blipFill>
        <p:spPr>
          <a:xfrm>
            <a:off x="703440" y="374760"/>
            <a:ext cx="857088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Результаты ВПР </a:t>
            </a:r>
            <a:br>
              <a:rPr sz="2400"/>
            </a:b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по истории</a:t>
            </a:r>
            <a:br>
              <a:rPr sz="2400"/>
            </a:br>
            <a:r>
              <a:rPr b="0" lang="ru-RU" sz="2400" spc="-1" strike="noStrike">
                <a:solidFill>
                  <a:srgbClr val="396c16"/>
                </a:solidFill>
                <a:latin typeface="Arial"/>
              </a:rPr>
              <a:t> в 5 классах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7" name="Диаграмма 2" descr=""/>
          <p:cNvPicPr/>
          <p:nvPr/>
        </p:nvPicPr>
        <p:blipFill>
          <a:blip r:embed="rId1"/>
          <a:srcRect l="0" t="0" r="0" b="-43"/>
          <a:stretch/>
        </p:blipFill>
        <p:spPr>
          <a:xfrm>
            <a:off x="5745240" y="2575080"/>
            <a:ext cx="644688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Object 6"/>
          <p:cNvGraphicFramePr/>
          <p:nvPr/>
        </p:nvGraphicFramePr>
        <p:xfrm>
          <a:off x="220680" y="262080"/>
          <a:ext cx="6524640" cy="34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680" y="262080"/>
                    <a:ext cx="6524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96c16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6200" y="1245960"/>
            <a:ext cx="85960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соответствие уровня качества знаний и успеваемости уровню выполнения работы – критериальная база не совершенн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ложность работы заключалась во взаимосвязи темы заданий 4-7, хотя по содержанию данная связь не прослеживается. Обучающиеся путаются при выполнении данных заданий, даже зная материа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96c16"/>
                </a:solidFill>
                <a:latin typeface="Trebuchet MS"/>
              </a:rPr>
              <a:t>Русский язык. 5 классы. Октябрь, апрель 2018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Диаграмма 2" descr=""/>
          <p:cNvPicPr/>
          <p:nvPr/>
        </p:nvPicPr>
        <p:blipFill>
          <a:blip r:embed="rId1"/>
          <a:stretch/>
        </p:blipFill>
        <p:spPr>
          <a:xfrm>
            <a:off x="1722600" y="1541520"/>
            <a:ext cx="78120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Вывод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520" y="1869840"/>
            <a:ext cx="92170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езначительное повышение результатов в 5-5 кл.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5-1,5-2, 5-3,5-4 снижение результатов освоения программы по русскому языку по сравнению с входной диагностической работой (ВПР)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ъясняется сложностью и объемностью итоговой работы и недостаточным количеством отведенного времени ( 12 заданий - 60 минут). Во входной работе было 5 заданий и 45 минут времен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1280" y="1257120"/>
            <a:ext cx="10388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3f7819"/>
                </a:solidFill>
                <a:latin typeface="Trebuchet MS"/>
              </a:rPr>
              <a:t>Мониторинг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– это система мер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непрерывному отслеживанию качества результатов освоения основной образовательной программы, их соответствия требованиям ФГОС общего образ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96c16"/>
                </a:solidFill>
                <a:latin typeface="Trebuchet MS"/>
              </a:rPr>
              <a:t>Рекомендации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880" y="1391760"/>
            <a:ext cx="92203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чителям продолжить отработку на практике пунктуационных и орфографических норм, познавательных и регулятивных УУД (умение классифицировать согласные звуки по мягкости–твердости в результате частичного фонетического анализа (учебно-языковые опознавательные и классификационные умения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вивать у обучающихся умение адекватно самостоятельно оценивать правильность выполнения действия и вносить необходимые коррективы – осуществлять самоконтрол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 5-4 и 5-5 классах также обратить внимание на развитие  умения делить слова на морфемы на основе смыслового и грамматического анализа слова, графически обозначать выявленные морфемы, умения распознавать изученные части речи в предлож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Диаграмма 5" descr=""/>
          <p:cNvPicPr/>
          <p:nvPr/>
        </p:nvPicPr>
        <p:blipFill>
          <a:blip r:embed="rId1"/>
          <a:stretch/>
        </p:blipFill>
        <p:spPr>
          <a:xfrm>
            <a:off x="0" y="0"/>
            <a:ext cx="8577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 переходе из начальной школы в основную в 5-6 классах наблюдается отрицательная динамика результатов, что объясняется следующими причинам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даптац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изкий уровень преемственности программного материала и системы оцени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сложнение программы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полняемость классов 29-30 челов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96c16"/>
                </a:solidFill>
                <a:latin typeface="Trebuchet MS"/>
              </a:rPr>
              <a:t>Управленческие решен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7520" y="1515960"/>
            <a:ext cx="85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заимодействие с Гатчинской НОШ №5 по обеспечению преемственности в формах и методах оценивания результатов обучающих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Активизация работы с родителями по повышению мотивации обучающихся, привлечение педагога-психолога, социального педаго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шение, принятое  на ШМО - т.к. ВПР входят в рабочий режим, формат заданий ВПР целесообразно использовать при отработке программного материала на практик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396c16"/>
                </a:solidFill>
                <a:latin typeface="Trebuchet MS"/>
              </a:rPr>
              <a:t>Проблема - риск получения недостоверных результатов</a:t>
            </a:r>
            <a:r>
              <a:rPr b="0" lang="ru-RU" sz="29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Решени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оздание независимой комиссии по проверке работ (учителя, не работающие в данной параллели)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бмен работами между учителями в рамках одной параллели,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проверке участвуют учителя, ведущие предмет в данном классе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3f7819"/>
                </a:solidFill>
                <a:latin typeface="Trebuchet MS"/>
              </a:rPr>
              <a:t>Спасибо за внимание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Структура мониторинга как вида образовательной деятельно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7" name="Содержимое 7" descr=""/>
          <p:cNvPicPr/>
          <p:nvPr/>
        </p:nvPicPr>
        <p:blipFill>
          <a:blip r:embed="rId1"/>
          <a:stretch/>
        </p:blipFill>
        <p:spPr>
          <a:xfrm>
            <a:off x="669960" y="2152800"/>
            <a:ext cx="97902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Алгоритм проведения мониторинга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18669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суждение актуальны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ка (актуализация системы показателей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бор данных, верификац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ичная (математическая) обработк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ая обработка (доклады, инфографика, рейтинги, базы данных…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ческие рекомендац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Кого,  что  мы  мониторим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9040" y="1879560"/>
            <a:ext cx="8596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дей (ученики, педагог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пецифические процесс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зульта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ффек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f7819"/>
                </a:solidFill>
                <a:latin typeface="Trebuchet MS"/>
              </a:rPr>
              <a:t>Зачем мониторим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оцен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расширенной оценк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планир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проектирован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развити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оптимиза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ля коррекц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f7819"/>
                </a:solidFill>
                <a:latin typeface="Trebuchet MS"/>
              </a:rPr>
              <a:t>Аналитические приемы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175104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бобщени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онтекстуализац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инамический анал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Сопоставительный анал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ластеризац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Оценка значимости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2508120" y="374760"/>
            <a:ext cx="49752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1641600" y="752400"/>
            <a:ext cx="58928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9T17:23:35Z</dcterms:created>
  <dc:creator>Windows User</dc:creator>
  <dc:description/>
  <dc:language>en-US</dc:language>
  <cp:lastModifiedBy>Galya</cp:lastModifiedBy>
  <dcterms:modified xsi:type="dcterms:W3CDTF">2005-08-16T00:12:46Z</dcterms:modified>
  <cp:revision>38</cp:revision>
  <dc:subject/>
  <dc:title>Особенности построения мониторинга. Как использовать  результаты ВПР</dc:title>
</cp:coreProperties>
</file>